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B88-A636-4E6A-A167-3A8B1E39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717-E423-4CDB-9CA6-5F059B94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5DD3-A950-4A55-A802-3AF19FE7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C2F-14FB-4ABE-A3C6-6601E33A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7B8-C116-47F4-BAFE-5A0F78BD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4E5-266F-4DD6-A8E7-035245CB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CA2-19FB-4776-9227-0A09DC96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5DF-17AB-4CD0-964B-1F7EB2AB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5FE-ACD7-4612-9323-CCC1AA87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F71-5F7A-44EB-A47A-5623ECCE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034-F19B-41DE-A781-A99F164C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9EA-EFC8-436B-9773-B244C48A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673F-C836-4F14-BE70-5056B9027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143000"/>
            <a:ext cx="7086600" cy="332352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9"/>
                </a:solidFill>
                <a:latin typeface="Arial"/>
              </a:rPr>
              <a:t>ЕК ЦОР В ИНФОРМАЦИОННО-ТЕЛЕКОММУНИКАЦИОННОМ СОПРОВОЖДЕНИИ СИСТЕМЫ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0"/>
            <a:ext cx="7924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9"/>
                </a:solidFill>
                <a:latin typeface="Arial"/>
              </a:rPr>
              <a:t>IX региональная научно-практическая конферен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b9"/>
                </a:solidFill>
                <a:latin typeface="Arial"/>
              </a:rPr>
              <a:t>«Российская школа и Интерн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724280"/>
            <a:ext cx="81532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Михалева Татьяна Борис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учитель математики –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МОУ Усть-Калманская О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Усть-Калманского района Алтайского кр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800600" y="609480"/>
            <a:ext cx="4038480" cy="366012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Подготовлены методические рекомендации и поурочные разработки, в которых показано, на каких этапах урока и с какой целью использовать тот или иной ЦОР из набора. Такие темы как,  «Информация и информационные процессы», «Устройство и принципы работы компьютера» хорошо представлены в  ИИСС (информационный источник сложной структу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52280" y="914400"/>
            <a:ext cx="4496040" cy="2952720"/>
          </a:xfrm>
          <a:prstGeom prst="rect">
            <a:avLst/>
          </a:prstGeom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0" name=""/>
          <p:cNvSpPr/>
          <p:nvPr/>
        </p:nvSpPr>
        <p:spPr>
          <a:xfrm>
            <a:off x="380880" y="4419720"/>
            <a:ext cx="8458200" cy="188280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«Информатика. 8-9 класс» (ЗАО «1С»), которые находятся в рубрике «Инновационные учебные материал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В состав ресурса входят справочные материалы, красочные интерактивные анимации, анимированные и интерактивные схемы, игры, проверочные задания, несколько виртуальных лаборатор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648320" y="685800"/>
            <a:ext cx="4267080" cy="558252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Отдельные ЦОРы использовала для предпрофильной подготовки учащихся по информатики 8-9 классов. Это информационный источник сложной структуры «Основы компьютерных сетей», который  поддерживает преподавание элективного курса «Телекоммуникационные технологии» с помощью наборов анимированных аудиолекций, слайдов-иллюстраций, тестов и т.д. В состав ресурса включены конструктор уроков для учителя, а также конструктор школьных сайтов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3657600"/>
            <a:ext cx="4267080" cy="2874960"/>
          </a:xfrm>
          <a:prstGeom prst="rect">
            <a:avLst/>
          </a:prstGeom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4267080" cy="2843280"/>
          </a:xfrm>
          <a:prstGeom prst="rect">
            <a:avLst/>
          </a:prstGeom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" y="822240"/>
            <a:ext cx="5181480" cy="3495600"/>
          </a:xfrm>
          <a:prstGeom prst="rect">
            <a:avLst/>
          </a:prstGeom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87" name=""/>
          <p:cNvSpPr/>
          <p:nvPr/>
        </p:nvSpPr>
        <p:spPr>
          <a:xfrm>
            <a:off x="5486400" y="533520"/>
            <a:ext cx="3657600" cy="420876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В условиях информатизации образования возрастает востребованность навыка скоропечатания. Формирование такого навыка наиболее эффективно осуществляется на основе специального программного средства – клавиатурного тренажера "Руки солиста", который предназначен как инструмент для работы в 7–9 классах общеобразовательной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800600"/>
            <a:ext cx="8991720" cy="173988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Клавиатурный тренажер размещен в разделе «Инструменты учебной деятельности» и содержит три группы упражнений, которые нацелены на получение учащихся навыка: -слепого набора букв центрального ряда клавиатуры; -слепого набора на всей буквенной клавиатуре, без переключения регистра, цифр и знаков препинания; -профилактических мер при работе с клавиа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609480"/>
            <a:ext cx="8001000" cy="570420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b9"/>
                </a:solidFill>
                <a:uFillTx/>
                <a:latin typeface="Arial"/>
              </a:rPr>
              <a:t>Разработанные ЦОРы единой колле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717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b9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ffb9"/>
                </a:solidFill>
                <a:uFillTx/>
                <a:latin typeface="Arial"/>
              </a:rPr>
              <a:t>С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оответствуют содержанию разделов в опорных учебниках, ориентированы на современные формы обучения, обеспечивают мультимедийность обучения, учитывают возрастные особенност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предлагают виды учебной деятельности, ориентирующие ученика на приобретение опыта решения жизненных проблем на основе знаний и умений, основанных в рамках данного разд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обеспечивают использование группов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содержат варианты учебного планирования, предполагающего модульную структу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основываются на достоверных материал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превышают по объёму соответствующие разделы учеб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имеют удобный интерфей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066680"/>
            <a:ext cx="73915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762120"/>
            <a:ext cx="8381880" cy="527760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Использование ЕК ЦОР  в обучении информатики и ИК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b9"/>
                </a:solidFill>
                <a:uFillTx/>
                <a:latin typeface="Arial"/>
              </a:rPr>
              <a:t>открывает возможности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b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организации разнообразных форм деятельности обучаемых по самостоятельному извлечению и представлению зн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b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2) применения всего спектра возможностей современных информационных и телекоммуникационных технологий в процессе выполнения разнообразных видов учеб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3) привнесения в учебный процесс наряду с ассоциативной прямой информации за счёт использования возможностей ИКТ и технологий мультимедиа, виртуальной реальности, гипертекстовых и гипермедиа сист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3915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533520"/>
            <a:ext cx="8229600" cy="585684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4) объективной диагностики и оценки интеллектуальных возможностей обучаемых, а также уровня их знаний, умений, навыков, уровня подготовки к конкретному занятию , соизмерения результатов усвоения материала в соответствии с требованиями государственного образовательного станда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5) управления учебной деятельностью обучаемых адекватно интеллектуальному уровню конкретного учащегося, уровню его знаний, умений, навыков, особенностям его мотивации с учётом реализуемых методов и используемых средст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6) создания условий для осуществления индивидуальной самостоятельной учебной деятельности обучаемых, формировать навыки самообучения, саморазвития, самосовершенствования, самообразования, самореализации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19520" y="0"/>
            <a:ext cx="2590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143000"/>
            <a:ext cx="8381880" cy="4572000"/>
          </a:xfrm>
          <a:prstGeom prst="wedgeRectCallout">
            <a:avLst>
              <a:gd name="adj1" fmla="val -49319"/>
              <a:gd name="adj2" fmla="val -26629"/>
            </a:avLst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. Беспалько В. П. Образование и обучение с участием компьютеров (педагогика третьего тысячелетия). — М: МПСИ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2. Бордовский Г. А., Нестеров А. А., Трапицын С. Ю. Управление качеством образовательного процесса: Монография. — СПб.: Издательство РГПУ им. А. И. Герцена, 2001. — 359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3.Вихрев В. В. Смена парадигмы: от электронного учебника к ЦОРу. Екатеринбург: ГОУ ВПО «УГ-ТУ-УПИ им. Б. Н. Ельцина», 2010. — С. 20—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URL: http://school-collection.edu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http://dist.ustu.ru/ioit/show.asp?file=notv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3837"/>
                </a:moveTo>
                <a:lnTo>
                  <a:pt x="16971" y="6448"/>
                </a:ln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lnTo>
                  <a:pt x="21357" y="10800"/>
                </a:lnTo>
                <a:lnTo>
                  <a:pt x="19704" y="10800"/>
                </a:lnTo>
                <a:lnTo>
                  <a:pt x="19704" y="17989"/>
                </a:lnTo>
                <a:lnTo>
                  <a:pt x="9085" y="17989"/>
                </a:lnTo>
                <a:lnTo>
                  <a:pt x="9085" y="10800"/>
                </a:lnTo>
                <a:lnTo>
                  <a:pt x="7431" y="10800"/>
                </a:lnTo>
                <a:close/>
              </a:path>
              <a:path fill="darkenLess" w="28789" h="21600">
                <a:moveTo>
                  <a:pt x="16971" y="6448"/>
                </a:moveTo>
                <a:lnTo>
                  <a:pt x="16971" y="4707"/>
                </a:lnTo>
                <a:lnTo>
                  <a:pt x="18746" y="4707"/>
                </a:lnTo>
                <a:lnTo>
                  <a:pt x="18746" y="8224"/>
                </a:lnTo>
                <a:close/>
              </a:path>
              <a:path fill="darkenLess" w="28789" h="21600">
                <a:moveTo>
                  <a:pt x="13472" y="14299"/>
                </a:moveTo>
                <a:lnTo>
                  <a:pt x="15317" y="14299"/>
                </a:lnTo>
                <a:lnTo>
                  <a:pt x="15317" y="17989"/>
                </a:lnTo>
                <a:lnTo>
                  <a:pt x="19704" y="17989"/>
                </a:lnTo>
                <a:lnTo>
                  <a:pt x="19704" y="10800"/>
                </a:lnTo>
                <a:lnTo>
                  <a:pt x="9085" y="10800"/>
                </a:lnTo>
                <a:lnTo>
                  <a:pt x="9085" y="17989"/>
                </a:lnTo>
                <a:lnTo>
                  <a:pt x="13472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685800"/>
            <a:ext cx="8381880" cy="558036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В условиях информационного общества образование должно быть способным обеспечить конкурентоспособность выпускника школы не только на Российском, но и на мировом рынке тр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Для этого необходимо, чтобы учащийся в школе начал осваивать те информационно-коммуникационные технологии (ИКТ), которые  он будет применять в профессион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Важно видеть, что эти технологии имеют практическое применение не только на уроках информатики, но и при изучении других учебных дисципл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0"/>
            <a:ext cx="1905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533520"/>
            <a:ext cx="8763120" cy="167940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Комплексная информатизация образования, способна решать задачи, при которой информационно – коммуникационные технологии начинают выступать в роли высокоэффективных педагогических инструментов, для обеспечения нового качества образовательн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362320"/>
            <a:ext cx="8763120" cy="338580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b9"/>
                </a:solidFill>
                <a:uFillTx/>
                <a:latin typeface="Arial"/>
              </a:rPr>
              <a:t>Для этого необходимо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техническое оснащение образовательных учреждений средствами вычислительной техн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повышение квалификации педагогов в сфере И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b9"/>
                </a:solidFill>
                <a:latin typeface="Arial"/>
              </a:rPr>
              <a:t>наличие цифровых образовательных ресурсов (ЦОР), которые способны обеспечить основные потребности системы образования, обозначенные рамками федеральных образовательных стандартов, удовлетворить образовательные запросы уча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590920"/>
            <a:ext cx="8305920" cy="338580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Федеральная целевая программа «Развитие единой образовательной информационной среды» заложила основу формирования учебных материалов на цифровых/электронных носителях и была продолжена в рамках Федеральной программы развития образования, а также проекта «Информатизация системы образования». Одним из направлений стала работа по созданию Единой коллекции цифровых образовательных ресурс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304560" cy="304920"/>
          </a:xfrm>
          <a:prstGeom prst="ellipse">
            <a:avLst/>
          </a:prstGeom>
          <a:noFill/>
          <a:ln w="0">
            <a:noFill/>
          </a:ln>
          <a:effectLst>
            <a:outerShdw dist="107932" dir="2700000" blurRad="0" rotWithShape="0">
              <a:srgbClr val="19245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8381880" cy="1338120"/>
          </a:xfrm>
          <a:prstGeom prst="rect">
            <a:avLst/>
          </a:prstGeom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143000"/>
            <a:ext cx="8153280" cy="430776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ЕК ЦОР,  для всех участников образовательного процесса (учащихся,  учителей, администраторов образования, родителей) стала тем местом, где каждый пользователь сможет найти самый разнообразный материал по интересующей его те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ЕК ЦОР стала систематизированным собранием цифровых учебно-методических материалов, сгруппированных в предметные и тематические коллекции, объединенные единой системой описания ресурсов и единой поисковой систе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304560" cy="304920"/>
          </a:xfrm>
          <a:prstGeom prst="ellipse">
            <a:avLst/>
          </a:prstGeom>
          <a:noFill/>
          <a:ln w="0">
            <a:noFill/>
          </a:ln>
          <a:effectLst>
            <a:outerShdw dist="107932" dir="2700000" blurRad="0" rotWithShape="0">
              <a:srgbClr val="19245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Единая коллекция цифровых образователь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762120"/>
            <a:ext cx="8381880" cy="484884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ЦОР как средство обучения должны соответствовать, с одной стороны, дидактическим требованиям, предъявляемым к традиционным средствам обучения: научности, доступности, наглядности и т. д., а с другой — специфическим требованиям, обусловленным особенностями информационно-коммуникационных технолог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b9"/>
                </a:solidFill>
                <a:latin typeface="Arial"/>
              </a:rPr>
              <a:t>При наличии таких условий, учащиеся имеют возможность выстраивать свою собственную траекторию обучения, адекватную их уровню знаний, умений и навыков, и учитывающую профессиональные предпочт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685800"/>
            <a:ext cx="7925040" cy="990720"/>
          </a:xfrm>
          <a:prstGeom prst="wedgeRectCallout">
            <a:avLst>
              <a:gd name="adj1" fmla="val -54606"/>
              <a:gd name="adj2" fmla="val -23555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требование адаптивности (способность ЦОР приспосабливаться к индивидуальным возможностям учащихся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581280"/>
            <a:ext cx="7848720" cy="1828800"/>
          </a:xfrm>
          <a:prstGeom prst="wedgeRectCallout">
            <a:avLst>
              <a:gd name="adj1" fmla="val -54532"/>
              <a:gd name="adj2" fmla="val -31768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требование мультимедийности обучения (в изложенном материале должны органично сочетаться текст, рисунки, анимационные модели, звук); требование эргономичности (оформление ЦОР с учётом особенностей восприятия информации (контрастность, цветовое сочетание элементов ЦОР, размер шрифта, отсутствие  информационных шумов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752480"/>
            <a:ext cx="7848720" cy="1752840"/>
          </a:xfrm>
          <a:prstGeom prst="wedgeRectCallout">
            <a:avLst>
              <a:gd name="adj1" fmla="val -53986"/>
              <a:gd name="adj2" fmla="val 12680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требование интерактивности (обеспечивает возможность выбора учащимися своей траектории изучения материала и его объёма, а также в ЦОР предусмотрено взаимодействие с обучающимся с помощью оценивания его действий, выдачи подсказок, совет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5486400"/>
            <a:ext cx="7848720" cy="914400"/>
          </a:xfrm>
          <a:prstGeom prst="wedgeRectCallout">
            <a:avLst>
              <a:gd name="adj1" fmla="val -54550"/>
              <a:gd name="adj2" fmla="val -32638"/>
            </a:avLst>
          </a:prstGeom>
          <a:noFill/>
          <a:ln w="9360">
            <a:solidFill>
              <a:srgbClr val="ffff6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технологические требования (простота установки ЦОР на конкретный компьютер, удобный интерфейс, правильная работа гиперссыло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0"/>
            <a:ext cx="701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ЕК ЦОР обладает следующими специфическими требования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4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838080"/>
            <a:ext cx="4267440" cy="501048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В своей практике использую ЕК ЦОР по курсу информатики и ИКТ для основной школы, которые содержат рубри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«Наборы цифровых ресурсов к учебникам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«Инновационные учебные материал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«Коллекц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b9"/>
                </a:solidFill>
                <a:latin typeface="Arial"/>
              </a:rPr>
              <a:t>«Инструменты учебной деятельност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952880" y="533520"/>
            <a:ext cx="3886200" cy="5867280"/>
            <a:chOff x="4952880" y="533520"/>
            <a:chExt cx="3886200" cy="586728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4952880" y="533520"/>
              <a:ext cx="3886200" cy="3705120"/>
            </a:xfrm>
            <a:prstGeom prst="rect">
              <a:avLst/>
            </a:prstGeom>
            <a:ln w="9360">
              <a:solidFill>
                <a:srgbClr val="ffffb9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4952880" y="3733920"/>
              <a:ext cx="3886200" cy="2666880"/>
            </a:xfrm>
            <a:prstGeom prst="rect">
              <a:avLst/>
            </a:prstGeom>
            <a:ln w="9360">
              <a:solidFill>
                <a:srgbClr val="ffffb9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181480" y="609480"/>
            <a:ext cx="3733920" cy="338580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b9"/>
                </a:solidFill>
                <a:latin typeface="Arial"/>
              </a:rPr>
              <a:t>В рубрике «Наборы цифровых ресурсов к учебникам» содержатся  ЦОР «Информатика-базовый курс» для 8 и 9 классов, разработанные к широко  распространённому УМК по информатике и ИКТ для 8-9 классов (авторский коллектив: Семакин И., Залогова Л., Русаков С., Шестакова Л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0427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4647960" cy="3081600"/>
          </a:xfrm>
          <a:prstGeom prst="rect">
            <a:avLst/>
          </a:prstGeom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5" name=""/>
          <p:cNvSpPr/>
          <p:nvPr/>
        </p:nvSpPr>
        <p:spPr>
          <a:xfrm>
            <a:off x="228600" y="4572000"/>
            <a:ext cx="8686800" cy="1739880"/>
          </a:xfrm>
          <a:prstGeom prst="rect">
            <a:avLst/>
          </a:prstGeom>
          <a:noFill/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b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b9"/>
                </a:solidFill>
                <a:latin typeface="Arial"/>
              </a:rPr>
              <a:t>слайды и интерактивные слайд-шоу, тестирующие программы, домашние задания, практические задания, интерактивный задачник, интерактивный справочник, кроссворды, модели, обучающие программы «Исполнитель алгоритмов «СТРЕЛОЧКА» и «Конструктор вычислительных алгоритмов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795240" cy="1219320"/>
          </a:xfrm>
          <a:prstGeom prst="rect">
            <a:avLst/>
          </a:prstGeom>
          <a:ln w="9360">
            <a:solidFill>
              <a:srgbClr val="ffffb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USSIA</cp:lastModifiedBy>
  <dcterms:modified xsi:type="dcterms:W3CDTF">2010-04-06T18:42:59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