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4BD-8F2A-4B60-9672-3F748D88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695-7A35-45F6-B411-FBF58FDC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0C5-3A5E-44BC-8B94-8D959F66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A41-A617-4441-8623-4882D481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070-4833-47DE-98BD-70765415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48A-D4F3-4B40-9943-6F79309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96F-1F9C-4962-90A9-F1946EAF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86A-1DB7-41FF-9981-C2F7B90B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887-C9FE-4FFA-8FC6-0F05999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5E2-4794-4624-B926-4A84A26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D86-9512-4A40-9606-DB55735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3F4-3D76-4855-8070-B7B6521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4FF-1A9E-4295-B2CE-9F87C045A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0"/>
            <a:ext cx="5867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«В новом веке - с новыми технология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762120"/>
            <a:ext cx="8839080" cy="60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9"/>
                </a:solidFill>
                <a:latin typeface="Arial"/>
              </a:rPr>
              <a:t>Тема работы:  разработка урока «Одночлен и его стандартный в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b9"/>
                </a:solidFill>
                <a:latin typeface="Arial"/>
              </a:rPr>
              <a:t>Михалева Татьяна Борисовна  учитель математики МОУ Усть-Калманская О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9"/>
                </a:solidFill>
                <a:latin typeface="Arial"/>
              </a:rPr>
              <a:t>Усть-Калманского района Алтайского к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9"/>
                </a:solidFill>
                <a:latin typeface="Arial"/>
              </a:rPr>
              <a:t>финалист конкурса в номинации «Активный пользователь ИКТ – учител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29000" y="457200"/>
            <a:ext cx="5715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учебный материал был организован таким образом, чтобы ученик имел возможность выбора при выполнении заданий, решении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1828800"/>
            <a:ext cx="5257800" cy="2057400"/>
          </a:xfrm>
          <a:prstGeom prst="wedgeRectCallout">
            <a:avLst>
              <a:gd name="adj1" fmla="val -54166"/>
              <a:gd name="adj2" fmla="val -35958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этапе закрепления, учащемуся предлагается выбор заданий для самостоя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- Из предложенных заданий решайте те, которые вам интересны и по сил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-Не огорчайтесь, если с чем-то пока не сможете справ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352680" cy="25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3352680" cy="253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3962520"/>
            <a:ext cx="56386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образовательный процесс обеспечивал  рефлексию, оценку учения как субъек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952880"/>
            <a:ext cx="5334120" cy="1447920"/>
          </a:xfrm>
          <a:prstGeom prst="wedgeRectCallout">
            <a:avLst>
              <a:gd name="adj1" fmla="val -55893"/>
              <a:gd name="adj2" fmla="val -44518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b9"/>
                </a:solidFill>
                <a:uFillTx/>
                <a:latin typeface="Arial"/>
              </a:rPr>
              <a:t>На этапе подведения итогов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интерактивный слайд поможет оперативно провести рефлексию. Предлагается учащимся выбрать  ключевые слова, с избыточным условие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133720"/>
            <a:ext cx="4343400" cy="1752480"/>
          </a:xfrm>
          <a:prstGeom prst="wedgeRectCallout">
            <a:avLst>
              <a:gd name="adj1" fmla="val -57384"/>
              <a:gd name="adj2" fmla="val -35509"/>
            </a:avLst>
          </a:prstGeom>
          <a:noFill/>
          <a:ln w="324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Задание предназначено для установления пробелов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Учащиеся самостоятельно приводят одночлен к стандартному в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5105520"/>
            <a:ext cx="4191120" cy="1295280"/>
          </a:xfrm>
          <a:prstGeom prst="wedgeRectCallout">
            <a:avLst>
              <a:gd name="adj1" fmla="val -58069"/>
              <a:gd name="adj2" fmla="val -34069"/>
            </a:avLst>
          </a:prstGeom>
          <a:noFill/>
          <a:ln w="324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Составление схемы побуждает учащихся обобщать и системати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838080"/>
            <a:ext cx="4800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Грамотное выполнение алгоритмических предписаний и инструкций на математическ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886200"/>
            <a:ext cx="43434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Владение логическими операциями (анализ, синтез, обобщ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723960"/>
            <a:ext cx="3657600" cy="276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3638520"/>
            <a:ext cx="3733920" cy="2766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71600" y="0"/>
            <a:ext cx="6781680" cy="118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Средства ИКТ  на уроке способствовали форм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066680"/>
            <a:ext cx="7391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828800"/>
            <a:ext cx="4876920" cy="1752480"/>
          </a:xfrm>
          <a:prstGeom prst="wedgeRectCallout">
            <a:avLst>
              <a:gd name="adj1" fmla="val -59504"/>
              <a:gd name="adj2" fmla="val -8967"/>
            </a:avLst>
          </a:prstGeom>
          <a:noFill/>
          <a:ln w="324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Интерактивный слайд . Один из учащихся у компьютера ЛМ выбирает алгебраические выражения, остальные контролируют себя сравнивают запись своих выражений с выражениями на слай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876920"/>
            <a:ext cx="4876920" cy="1447560"/>
          </a:xfrm>
          <a:prstGeom prst="wedgeRectCallout">
            <a:avLst>
              <a:gd name="adj1" fmla="val -57615"/>
              <a:gd name="adj2" fmla="val -9976"/>
            </a:avLst>
          </a:prstGeom>
          <a:noFill/>
          <a:ln w="324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b9"/>
                </a:solidFill>
                <a:uFillTx/>
                <a:latin typeface="Arial"/>
              </a:rPr>
              <a:t>Этап задание на дом и инструкт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b9"/>
                </a:solidFill>
                <a:uFillTx/>
                <a:latin typeface="Arial"/>
              </a:rPr>
              <a:t>по его выполнению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Для учащиеся, предлагается альтернативное задание, посетить дома страничку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Internet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33520"/>
            <a:ext cx="4952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Владение  навыками использования информационных 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48769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Владение  навыками работы с различными источникам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504960" cy="2651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5053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Использование ИКТ на данном уроке  способствов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09480"/>
            <a:ext cx="8458200" cy="2667240"/>
          </a:xfrm>
          <a:prstGeom prst="wedgeRectCallout">
            <a:avLst>
              <a:gd name="adj1" fmla="val -53828"/>
              <a:gd name="adj2" fmla="val 35597"/>
            </a:avLst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решению всех задач урока: дидактических, развивающих, воспитатель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повышению познавательной активности  учащихся: развивается  интерес к теме, каждый ученик  на уроке занят делом, никто не бездельнич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повышению интенсификации урока и темпа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увеличению объёма выполне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сохранению здоровь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формированию культуры работы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429000"/>
            <a:ext cx="8458200" cy="1295280"/>
          </a:xfrm>
          <a:prstGeom prst="wedgeRectCallout">
            <a:avLst>
              <a:gd name="adj1" fmla="val -54277"/>
              <a:gd name="adj2" fmla="val 43870"/>
            </a:avLst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Применение ИКТ выполняло важные функции и в деятельности учителя на уроке, увеличивая его возможности в качестве воспитателя, организатора, оценивающего и контролирующего процесс и результаты обуч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876920"/>
            <a:ext cx="8458200" cy="1523880"/>
          </a:xfrm>
          <a:prstGeom prst="wedgeRectCallout">
            <a:avLst>
              <a:gd name="adj1" fmla="val -54277"/>
              <a:gd name="adj2" fmla="val 33541"/>
            </a:avLst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Результатом деятельности учащихся на уроке стало понимание сути  определения одночлена,  осознание рациональности применения алгоритма приведения одночлена к стандартному виду,  понимание разницы между одночленами  в стандартном и нестандартном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5562720" cy="588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9"/>
                </a:solidFill>
                <a:latin typeface="Arial"/>
              </a:rPr>
              <a:t>Мой опыт работы по использованию информационных технологий в учебно-воспитательном процессе формировался в МОУ Усть-Калманская ОО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9"/>
                </a:solidFill>
                <a:latin typeface="Arial"/>
              </a:rPr>
              <a:t>В школе – 82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9"/>
                </a:solidFill>
                <a:latin typeface="Arial"/>
              </a:rPr>
              <a:t>14 –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9"/>
                </a:solidFill>
                <a:latin typeface="Arial"/>
              </a:rPr>
              <a:t>Наша школа имеет медиатеку с выходом в Интернет оснащенную  компьютерной техникой и комплектом электронных учебных изданий, что позволяет по-новому подойти к организации учеб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895840" cy="2120760"/>
          </a:xfrm>
          <a:prstGeom prst="rect">
            <a:avLst/>
          </a:prstGeom>
          <a:ln w="9360">
            <a:solidFill>
              <a:srgbClr val="ffffb9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2944800" cy="2219400"/>
          </a:xfrm>
          <a:prstGeom prst="rect">
            <a:avLst/>
          </a:prstGeom>
          <a:ln w="9360">
            <a:solidFill>
              <a:srgbClr val="ffffb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876920"/>
            <a:ext cx="8458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В  теме «Одночлены» - это перв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Форма урока: ознакомление с новым материа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b9"/>
                </a:solidFill>
                <a:latin typeface="Arial"/>
              </a:rPr>
              <a:t>Класс -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7, допустимый уровень усвоения материала.</a:t>
            </a:r>
            <a:r>
              <a:rPr b="1" lang="en-US" sz="18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429000"/>
            <a:ext cx="3886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b9"/>
                </a:solidFill>
                <a:uFillTx/>
                <a:latin typeface="Arial"/>
              </a:rPr>
              <a:t>Обоснование выбора формы проведения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886200" cy="292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0"/>
            <a:ext cx="838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Урок  «Одночлен и его стандартный вид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762120"/>
            <a:ext cx="4267080" cy="28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имеет личностно ориентированную направленность, подготовлен для решения задач личностн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05520" y="1981080"/>
            <a:ext cx="35049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b9"/>
                </a:solidFill>
                <a:uFillTx/>
                <a:latin typeface="Arial"/>
              </a:rPr>
              <a:t>Актуальность поставленной цели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724280"/>
            <a:ext cx="8458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Урок направлен на создание условий овладения учащимися понятия «одночлен» и умения применения алгоритма приведения одночлена к стандартному виду в простейших случ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8862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828800"/>
            <a:ext cx="8915400" cy="35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ffffb9"/>
                </a:solidFill>
                <a:uFillTx/>
                <a:latin typeface="Arial"/>
              </a:rPr>
              <a:t>Знать/понимать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определение одночлена и алгоритм приведения любого одночлена к стандартному в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b9"/>
                </a:solidFill>
                <a:uFillTx/>
                <a:latin typeface="Arial"/>
              </a:rPr>
              <a:t>Уметь находить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коэффициент, буквенную часть, показатель степени,  приводить примеры одночленов в стандартном и нестандарт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ffb9"/>
                </a:solidFill>
                <a:uFillTx/>
                <a:latin typeface="Arial"/>
              </a:rPr>
              <a:t>Убедиться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в рациональности применения приведения одночлена к стандартному виду и практической значимости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80880"/>
            <a:ext cx="8001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9"/>
                </a:solidFill>
                <a:latin typeface="Arial"/>
              </a:rPr>
              <a:t>В результате изучения темы учащиеся долж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066680"/>
            <a:ext cx="304560" cy="304920"/>
          </a:xfrm>
          <a:prstGeom prst="ellipse">
            <a:avLst/>
          </a:prstGeom>
          <a:noFill/>
          <a:ln w="0">
            <a:noFill/>
          </a:ln>
          <a:effectLst>
            <a:outerShdw dist="107932" dir="2700000" blurRad="0" rotWithShape="0">
              <a:srgbClr val="19245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8120"/>
            <a:ext cx="228600" cy="228600"/>
          </a:xfrm>
          <a:prstGeom prst="ellipse">
            <a:avLst/>
          </a:prstGeom>
          <a:solidFill>
            <a:srgbClr val="23305b"/>
          </a:solidFill>
          <a:ln w="3240">
            <a:solidFill>
              <a:srgbClr val="b3dcd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343400"/>
            <a:ext cx="228600" cy="228600"/>
          </a:xfrm>
          <a:prstGeom prst="ellipse">
            <a:avLst/>
          </a:prstGeom>
          <a:solidFill>
            <a:srgbClr val="23305b"/>
          </a:solidFill>
          <a:ln w="3240">
            <a:solidFill>
              <a:srgbClr val="b3dcd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228600" cy="228600"/>
          </a:xfrm>
          <a:prstGeom prst="ellipse">
            <a:avLst/>
          </a:prstGeom>
          <a:solidFill>
            <a:srgbClr val="23305b"/>
          </a:solidFill>
          <a:ln w="3240">
            <a:solidFill>
              <a:srgbClr val="b3dcd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523880"/>
            <a:ext cx="2133360" cy="533520"/>
          </a:xfrm>
          <a:prstGeom prst="rect">
            <a:avLst/>
          </a:prstGeom>
          <a:solidFill>
            <a:srgbClr val="222f58"/>
          </a:solidFill>
          <a:ln w="9360">
            <a:solidFill>
              <a:srgbClr val="a3d5d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каком эта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657600"/>
            <a:ext cx="2057400" cy="533520"/>
          </a:xfrm>
          <a:prstGeom prst="rect">
            <a:avLst/>
          </a:prstGeom>
          <a:solidFill>
            <a:srgbClr val="222f58"/>
          </a:solidFill>
          <a:ln w="9360">
            <a:solidFill>
              <a:srgbClr val="a3d5d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Для  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334120"/>
            <a:ext cx="2209680" cy="533160"/>
          </a:xfrm>
          <a:prstGeom prst="rect">
            <a:avLst/>
          </a:prstGeom>
          <a:solidFill>
            <a:srgbClr val="222f58"/>
          </a:solidFill>
          <a:ln w="9360">
            <a:solidFill>
              <a:srgbClr val="a3d5d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Что применя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09480"/>
            <a:ext cx="5181480" cy="2210040"/>
          </a:xfrm>
          <a:prstGeom prst="wedgeRectCallout">
            <a:avLst>
              <a:gd name="adj1" fmla="val -64921"/>
              <a:gd name="adj2" fmla="val 3305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При подготовке учащихся  к активному    усвоению   нов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этапе изучения нов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этапе проверки понимания нов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этапе закрепления ЗУ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При задании на д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При проведении рефлекс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5257800"/>
            <a:ext cx="5029200" cy="1219320"/>
          </a:xfrm>
          <a:prstGeom prst="wedgeRectCallout">
            <a:avLst>
              <a:gd name="adj1" fmla="val -67268"/>
              <a:gd name="adj2" fmla="val 1300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Презентация </a:t>
            </a:r>
            <a:r>
              <a:rPr b="1" i="1" lang="ru-RU" sz="1800" spc="-1" strike="noStrike">
                <a:solidFill>
                  <a:srgbClr val="ffffb9"/>
                </a:solidFill>
                <a:latin typeface="Arial"/>
              </a:rPr>
              <a:t>Power Point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(или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Notebook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1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Флеш - ролик  из ЕКЦ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Интернет-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2971800"/>
            <a:ext cx="5105520" cy="2133720"/>
          </a:xfrm>
          <a:prstGeom prst="wedgeRectCallout">
            <a:avLst>
              <a:gd name="adj1" fmla="val -67009"/>
              <a:gd name="adj2" fmla="val 745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Для демонстрации учеб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для поиска необходимой информации при выполнении домашнего задания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для подготовки учителя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для само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0"/>
            <a:ext cx="77724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Организация учебной деятельности на уроке с учётом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1120" y="1447920"/>
            <a:ext cx="4952880" cy="19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учебный материал обеспечивал выявление  субъектного опыта ученика, включая опыт его предшествующего обучения</a:t>
            </a:r>
            <a:r>
              <a:rPr b="0" lang="en-US" sz="24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4038480"/>
            <a:ext cx="4572000" cy="1981440"/>
          </a:xfrm>
          <a:prstGeom prst="wedgeRectCallout">
            <a:avLst>
              <a:gd name="adj1" fmla="val -50625"/>
              <a:gd name="adj2" fmla="val -80611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На этапе изучения нового матери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учащиеся работают над формированием алгоритма приведения одночлена к стандартному виду, опираясь на свой предыдущий опы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Использованные средства ИКТ способств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дидактическому обеспечению личностно-ориентированного процесс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43400" y="914400"/>
            <a:ext cx="4800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изложение знаний учителем было направлено не только на расширение предметного содержания, но и на преобразование наличного опыта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886200"/>
            <a:ext cx="4572000" cy="2514600"/>
          </a:xfrm>
          <a:prstGeom prst="wedgeRectCallout">
            <a:avLst>
              <a:gd name="adj1" fmla="val -50625"/>
              <a:gd name="adj2" fmla="val -71842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этапе изучения нового матери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ставится задача сформировать конкретное представление о новом понятии. Задание «выбрать определение» с недостаточным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избыточным условием направлено на развитие мыслительных операций: сравнивать, обобщать, делать вывод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9621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33920" y="457200"/>
            <a:ext cx="54100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в ходе обучения постоянно идет согласование опыта ученика с научным содерж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905120"/>
            <a:ext cx="5257800" cy="990360"/>
          </a:xfrm>
          <a:prstGeom prst="wedgeRectCallout">
            <a:avLst>
              <a:gd name="adj1" fmla="val -54893"/>
              <a:gd name="adj2" fmla="val -88138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Учащиеся слушают флеш - ролик из ЕКЦОР и сравнивают с выбранным определением 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3505320" cy="264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3505320" cy="2652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62520" y="2971800"/>
            <a:ext cx="4800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обеспечивался контроль и оценка не только результата, но главным образом процесса 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495680"/>
            <a:ext cx="4952880" cy="2057400"/>
          </a:xfrm>
          <a:prstGeom prst="wedgeRectCallout">
            <a:avLst>
              <a:gd name="adj1" fmla="val -56347"/>
              <a:gd name="adj2" fmla="val -47995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На этапе проверки понимания нового , для выявления пробелов и выяснения уровня осознанности у большинства средних и слабых учащихся, задается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- Являются ли одночленами следующие выражения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SIA</cp:lastModifiedBy>
  <dcterms:modified xsi:type="dcterms:W3CDTF">2010-01-19T18:52:59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