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514B-31AD-439A-A1B5-DFD04125B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предложенных выражений(стандартного, нулевые, коэффициентом, дробью, степенью, подобными) учитель просит -вставьте пропущенные слова  в следующие опреде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ащиеся составляют схему в тетради. Учитель для проверки открывает ячей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стная работа. Являются ли одночленами следующие выражения ?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асскажите, как одночл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ести к стандартному в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ащиеся выполняют задания самостоятельно, слайды с №14 -№17 подготовлены для быстрой провер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щийся ЛМ выбирает понятия с которыми познакомились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виз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записать алгебраические выражения под диктовку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айд -озвучен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ждое предложение читается два раза, для учащихся, которые испытывают трудности при слуховом восприятии, на слайде подготовлен текс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проверить правильность написания выражений. Один из учащихся (по тетради) ЛМ выбирает алгебраические 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выбрать определение одночлена, которые предлагаются с недостаточным или избыточным усло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прослушать флеш - ролик  и убедиться в правильности выбранного определения, далее учащиеся узнают определение одночлена стандартного вида, .степени одночлена и т.д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итель предлагает упростить одночлен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Организует совмест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сит  одного учащегося комментировать свое решение с ме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демонстрирует  слайд с одночленами стандартного и нестандартного вида. Организует ситуацию по осмыслению приведения одночлена к стандартному в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роще ли стандартный вид одночлена по сравнению с нестандарт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итель приводит приме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эффициента одночлена, -буквенной части, - степени одночл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просит  учащихся назвать  коэффициент одночлена, буквенную часть, просит объяснять как найти степень одночл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285-966F-4118-A6FF-8F58073D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3F7-7907-4E4A-81D5-40EF3334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132-D008-4AEF-B719-E4C0CAB2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546-5C79-4466-A292-47C89DA3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33E-5879-4FF1-BED6-693EF7C9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513-053F-4011-940D-47A42711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97A-4598-4B81-8C2C-2EA7A414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0E6-F5A2-4434-89F1-9681378D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2FB-97BD-4D49-98DE-5D8FD74A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557-F096-4EDC-8707-09615437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1B5-5F35-4B28-A91B-15ACD306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130-95DF-490C-99A8-B8095D8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9153-909E-4465-85C5-00B7F68B6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hyperlink" Target="http://www.bymath.net/" TargetMode="External"/><Relationship Id="rId5" Type="http://schemas.openxmlformats.org/officeDocument/2006/relationships/hyperlink" Target="http://www.bymath.net/" TargetMode="External"/><Relationship Id="rId6" Type="http://schemas.openxmlformats.org/officeDocument/2006/relationships/hyperlink" Target="http://www.bymath.net/" TargetMode="External"/><Relationship Id="rId7" Type="http://schemas.openxmlformats.org/officeDocument/2006/relationships/hyperlink" Target="http://www.bymath.net/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4.xml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4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15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6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7.jpe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14.png"/><Relationship Id="rId11" Type="http://schemas.openxmlformats.org/officeDocument/2006/relationships/image" Target="../media/image17.jpe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14.pn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image" Target="../media/image8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59280" y="4583160"/>
            <a:ext cx="756000" cy="4395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9144000" cy="6925320"/>
            <a:chOff x="0" y="0"/>
            <a:chExt cx="9144000" cy="6925320"/>
          </a:xfrm>
        </p:grpSpPr>
        <p:sp>
          <p:nvSpPr>
            <p:cNvPr id="54" name=""/>
            <p:cNvSpPr/>
            <p:nvPr/>
          </p:nvSpPr>
          <p:spPr>
            <a:xfrm>
              <a:off x="5759280" y="1270080"/>
              <a:ext cx="3240360" cy="374472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755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42920" y="5734080"/>
              <a:ext cx="900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Monotype Corsiva"/>
                </a:rPr>
                <a:t>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Monotype Corsiva"/>
                </a:rPr>
                <a:t>Михалева Т.Б. учитель математики МОУ Усть-Калманская ООШ Усть-Калманского района Алтайского края, 2009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755640" y="0"/>
              <a:ext cx="8388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21225600">
              <a:off x="2485080" y="430200"/>
              <a:ext cx="50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Arial"/>
                </a:rPr>
                <a:t>«В новом веке - с новыми технологиям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02200" y="1486080"/>
              <a:ext cx="2952720" cy="23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Тема уро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1" i="1" lang="en-US" sz="2800" spc="-1" strike="noStrike">
                  <a:solidFill>
                    <a:srgbClr val="ffff00"/>
                  </a:solidFill>
                  <a:latin typeface="Verdana"/>
                </a:rPr>
                <a:t>«Одночлен и его стандартный вид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90560" y="1270080"/>
              <a:ext cx="4105440" cy="48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000066"/>
                  </a:solidFill>
                  <a:latin typeface="Monotype Corsiva"/>
                </a:rPr>
                <a:t>7 </a:t>
              </a:r>
              <a:r>
                <a:rPr b="0" i="1" lang="en-US" sz="8800" spc="-1" strike="noStrike">
                  <a:solidFill>
                    <a:srgbClr val="00007e"/>
                  </a:solidFill>
                  <a:latin typeface="Monotype Corsiva"/>
                </a:rPr>
                <a:t>класс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000066"/>
                  </a:solidFill>
                  <a:latin typeface="Monotype Corsiva"/>
                </a:rPr>
                <a:t>алгебра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36800" y="0"/>
            <a:ext cx="8107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Вставьте пропущенные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в следующие опре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2060640"/>
            <a:ext cx="796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Одночлен, в котором единственный числовой множитель стоит на первом месте и степень любой переменной входит множителем только один раз, называется одночленом </a:t>
            </a:r>
            <a:r>
              <a:rPr b="1" lang="en-US" sz="2000" spc="-1" strike="noStrike">
                <a:solidFill>
                  <a:srgbClr val="00007e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 …                              вида.</a:t>
            </a:r>
            <a:r>
              <a:rPr b="0" lang="ru-RU" sz="2000" spc="-1" strike="noStrike">
                <a:solidFill>
                  <a:srgbClr val="00007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4076640"/>
            <a:ext cx="783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e"/>
                </a:solidFill>
                <a:latin typeface="Comic Sans MS"/>
              </a:rPr>
              <a:t>Сумма   показателей   всех  степеней   переменных называется       …                           одноч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5373720"/>
            <a:ext cx="769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e"/>
                </a:solidFill>
                <a:latin typeface="Comic Sans MS"/>
              </a:rPr>
              <a:t>Числовой множитель одночлена стандартного вида называется       …                            одноч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404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e"/>
                </a:solidFill>
                <a:latin typeface="Arial"/>
              </a:rPr>
              <a:t>стандар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836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e"/>
                </a:solidFill>
                <a:latin typeface="Arial"/>
              </a:rPr>
              <a:t>дроб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59280" y="836640"/>
            <a:ext cx="21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e"/>
                </a:solidFill>
                <a:latin typeface="Arial"/>
              </a:rPr>
              <a:t>степ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404640"/>
            <a:ext cx="21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e"/>
                </a:solidFill>
                <a:latin typeface="Arial"/>
              </a:rPr>
              <a:t>ну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404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e"/>
                </a:solidFill>
                <a:latin typeface="Arial"/>
              </a:rPr>
              <a:t>коэффицие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64000" y="836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e"/>
                </a:solidFill>
                <a:latin typeface="Arial"/>
              </a:rPr>
              <a:t>подоб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1481E-006 L 0.20486 0.39375 E">
                                      <p:cBhvr>
                                        <p:cTn id="43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-0.04704 0.53032 E">
                                      <p:cBhvr>
                                        <p:cTn id="43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29913 0.7824 E">
                                      <p:cBhvr>
                                        <p:cTn id="44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7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1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154560" y="2852640"/>
            <a:ext cx="295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354560" y="2492280"/>
            <a:ext cx="1100160" cy="2521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427640" y="981000"/>
            <a:ext cx="1100160" cy="2521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4284720" y="549360"/>
            <a:ext cx="1312920" cy="944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572000" y="404640"/>
            <a:ext cx="1224000" cy="9813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30"/>
                </a:moveTo>
                <a:cubicBezTo>
                  <a:pt x="3" y="26"/>
                  <a:pt x="7" y="22"/>
                  <a:pt x="11" y="21"/>
                </a:cubicBezTo>
                <a:cubicBezTo>
                  <a:pt x="19" y="21"/>
                  <a:pt x="27" y="21"/>
                  <a:pt x="35" y="22"/>
                </a:cubicBezTo>
                <a:cubicBezTo>
                  <a:pt x="39" y="22"/>
                  <a:pt x="46" y="28"/>
                  <a:pt x="46" y="28"/>
                </a:cubicBezTo>
                <a:cubicBezTo>
                  <a:pt x="50" y="25"/>
                  <a:pt x="51" y="25"/>
                  <a:pt x="56" y="26"/>
                </a:cubicBezTo>
                <a:cubicBezTo>
                  <a:pt x="59" y="30"/>
                  <a:pt x="60" y="34"/>
                  <a:pt x="61" y="39"/>
                </a:cubicBezTo>
                <a:cubicBezTo>
                  <a:pt x="59" y="45"/>
                  <a:pt x="55" y="50"/>
                  <a:pt x="62" y="55"/>
                </a:cubicBezTo>
                <a:cubicBezTo>
                  <a:pt x="72" y="53"/>
                  <a:pt x="71" y="43"/>
                  <a:pt x="62" y="40"/>
                </a:cubicBezTo>
                <a:cubicBezTo>
                  <a:pt x="66" y="28"/>
                  <a:pt x="65" y="17"/>
                  <a:pt x="58" y="7"/>
                </a:cubicBezTo>
                <a:cubicBezTo>
                  <a:pt x="55" y="2"/>
                  <a:pt x="41" y="1"/>
                  <a:pt x="41" y="1"/>
                </a:cubicBezTo>
                <a:cubicBezTo>
                  <a:pt x="18" y="2"/>
                  <a:pt x="24" y="0"/>
                  <a:pt x="11" y="8"/>
                </a:cubicBezTo>
                <a:cubicBezTo>
                  <a:pt x="10" y="12"/>
                  <a:pt x="3" y="19"/>
                  <a:pt x="3" y="19"/>
                </a:cubicBezTo>
                <a:cubicBezTo>
                  <a:pt x="2" y="23"/>
                  <a:pt x="1" y="26"/>
                  <a:pt x="0" y="3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1187280" y="1700280"/>
            <a:ext cx="1100160" cy="2520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924360" y="1484280"/>
            <a:ext cx="2016000" cy="288144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e"/>
                </a:solidFill>
                <a:latin typeface="Arial"/>
              </a:rPr>
              <a:t>Одноч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e"/>
                </a:solidFill>
                <a:latin typeface="Arial"/>
              </a:rPr>
              <a:t>стандар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e"/>
                </a:solidFill>
                <a:latin typeface="Arial"/>
              </a:rPr>
              <a:t>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e"/>
                </a:solidFill>
                <a:latin typeface="Arial"/>
              </a:rPr>
              <a:t>4х</a:t>
            </a:r>
            <a:r>
              <a:rPr b="1" i="1" lang="en-US" sz="28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7e"/>
                </a:solidFill>
                <a:latin typeface="Arial"/>
              </a:rPr>
              <a:t>в</a:t>
            </a:r>
            <a:r>
              <a:rPr b="1" i="1" lang="en-US" sz="2800" spc="-1" strike="noStrike" baseline="30000">
                <a:solidFill>
                  <a:srgbClr val="00007e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00007e"/>
                </a:solidFill>
                <a:latin typeface="Arial"/>
              </a:rPr>
              <a:t>у</a:t>
            </a:r>
            <a:r>
              <a:rPr b="1" i="1" lang="en-US" sz="28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2133720"/>
            <a:ext cx="2376360" cy="158256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Одноч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2в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х2в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у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43640" y="549360"/>
            <a:ext cx="2303640" cy="143964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Коэффици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88000" y="2565360"/>
            <a:ext cx="2448000" cy="144000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Бук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в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у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0920" y="4508640"/>
            <a:ext cx="2376720" cy="144144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одноч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3+5+4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0560" y="270828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20364600">
            <a:off x="5662080" y="1765080"/>
            <a:ext cx="993960" cy="204480"/>
          </a:xfrm>
          <a:prstGeom prst="rightArrow">
            <a:avLst>
              <a:gd name="adj1" fmla="val 50000"/>
              <a:gd name="adj2" fmla="val 1215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715800">
            <a:off x="5941800" y="3089160"/>
            <a:ext cx="650880" cy="187560"/>
          </a:xfrm>
          <a:prstGeom prst="rightArrow">
            <a:avLst>
              <a:gd name="adj1" fmla="val 50000"/>
              <a:gd name="adj2" fmla="val 867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011800">
            <a:off x="5563800" y="4235400"/>
            <a:ext cx="1555920" cy="244440"/>
          </a:xfrm>
          <a:prstGeom prst="rightArrow">
            <a:avLst>
              <a:gd name="adj1" fmla="val 50000"/>
              <a:gd name="adj2" fmla="val 1591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1042920" y="1197000"/>
            <a:ext cx="1312920" cy="944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H="1">
            <a:off x="1042200" y="1052640"/>
            <a:ext cx="1081080" cy="98100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30"/>
                </a:moveTo>
                <a:cubicBezTo>
                  <a:pt x="3" y="26"/>
                  <a:pt x="7" y="22"/>
                  <a:pt x="11" y="21"/>
                </a:cubicBezTo>
                <a:cubicBezTo>
                  <a:pt x="19" y="21"/>
                  <a:pt x="27" y="21"/>
                  <a:pt x="35" y="22"/>
                </a:cubicBezTo>
                <a:cubicBezTo>
                  <a:pt x="39" y="22"/>
                  <a:pt x="46" y="28"/>
                  <a:pt x="46" y="28"/>
                </a:cubicBezTo>
                <a:cubicBezTo>
                  <a:pt x="50" y="25"/>
                  <a:pt x="51" y="25"/>
                  <a:pt x="56" y="26"/>
                </a:cubicBezTo>
                <a:cubicBezTo>
                  <a:pt x="59" y="30"/>
                  <a:pt x="60" y="34"/>
                  <a:pt x="61" y="39"/>
                </a:cubicBezTo>
                <a:cubicBezTo>
                  <a:pt x="59" y="45"/>
                  <a:pt x="55" y="50"/>
                  <a:pt x="62" y="55"/>
                </a:cubicBezTo>
                <a:cubicBezTo>
                  <a:pt x="72" y="53"/>
                  <a:pt x="71" y="43"/>
                  <a:pt x="62" y="40"/>
                </a:cubicBezTo>
                <a:cubicBezTo>
                  <a:pt x="66" y="28"/>
                  <a:pt x="65" y="17"/>
                  <a:pt x="58" y="7"/>
                </a:cubicBezTo>
                <a:cubicBezTo>
                  <a:pt x="55" y="2"/>
                  <a:pt x="41" y="1"/>
                  <a:pt x="41" y="1"/>
                </a:cubicBezTo>
                <a:cubicBezTo>
                  <a:pt x="18" y="2"/>
                  <a:pt x="24" y="0"/>
                  <a:pt x="11" y="8"/>
                </a:cubicBezTo>
                <a:cubicBezTo>
                  <a:pt x="10" y="12"/>
                  <a:pt x="3" y="19"/>
                  <a:pt x="3" y="19"/>
                </a:cubicBezTo>
                <a:cubicBezTo>
                  <a:pt x="2" y="23"/>
                  <a:pt x="1" y="26"/>
                  <a:pt x="0" y="30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2924280"/>
            <a:ext cx="1366920" cy="50472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08720" y="1268280"/>
            <a:ext cx="503280" cy="43200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80360" y="3500280"/>
            <a:ext cx="1008000" cy="36036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93080" y="5445000"/>
            <a:ext cx="1511280" cy="28908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260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e"/>
                </a:solidFill>
                <a:latin typeface="Comic Sans MS"/>
              </a:rPr>
              <a:t>Являются ли одночленами следующие выражения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187280" y="1341360"/>
                <a:ext cx="126540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76720" y="1341360"/>
                <a:ext cx="1800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724360" y="1125360"/>
                <a:ext cx="244800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763640" y="3068640"/>
                <a:ext cx="518472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124000" y="4673520"/>
                <a:ext cx="54723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404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e"/>
                </a:solidFill>
                <a:latin typeface="Comic Sans MS"/>
              </a:rPr>
              <a:t>Приведите одночлен к стандартному ви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8000" y="620640"/>
                <a:ext cx="539460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476360" y="2924280"/>
                <a:ext cx="727236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195640" y="5084640"/>
                <a:ext cx="28796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826920" y="1125360"/>
          <a:ext cx="8064720" cy="5119920"/>
        </p:xfrm>
        <a:graphic>
          <a:graphicData uri="http://schemas.openxmlformats.org/drawingml/2006/table">
            <a:tbl>
              <a:tblPr/>
              <a:tblGrid>
                <a:gridCol w="3530880"/>
                <a:gridCol w="1603080"/>
                <a:gridCol w="2930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хв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54авс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вса5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-6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ас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9)вс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10а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-х)у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6)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3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хх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3хв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хххху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6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0" y="476280"/>
            <a:ext cx="91440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e"/>
                </a:solidFill>
                <a:latin typeface="Comic Sans MS"/>
              </a:rPr>
              <a:t>№ </a:t>
            </a:r>
            <a:r>
              <a:rPr b="0" lang="en-US" sz="2400" spc="-1" strike="noStrike">
                <a:solidFill>
                  <a:srgbClr val="00007e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7e"/>
                </a:solidFill>
                <a:latin typeface="Comic Sans MS"/>
              </a:rPr>
              <a:t>. Для каждого выражения из первого столбца подберите соответствующий стандартный одночлен из второго столб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02520" y="4221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9440" y="3573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84720" y="20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9440" y="4797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02520" y="5516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56000" y="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77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5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85549E-006 L -0.18125 0.2185 E">
                                      <p:cBhvr>
                                        <p:cTn id="71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20312 -0.10695 E">
                                      <p:cBhvr>
                                        <p:cTn id="720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0.18906 0.19745 E">
                                      <p:cBhvr>
                                        <p:cTn id="72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-0.2191 -0.30625 E">
                                      <p:cBhvr>
                                        <p:cTn id="73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7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9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042920" y="1268280"/>
          <a:ext cx="7199280" cy="4537080"/>
        </p:xfrm>
        <a:graphic>
          <a:graphicData uri="http://schemas.openxmlformats.org/drawingml/2006/table">
            <a:tbl>
              <a:tblPr/>
              <a:tblGrid>
                <a:gridCol w="2087280"/>
                <a:gridCol w="793800"/>
                <a:gridCol w="1441440"/>
                <a:gridCol w="1436760"/>
                <a:gridCol w="14400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Одно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Коэф­ф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-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-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Буквенная ч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одночл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Станд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u-RU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MS Reference Specialty"/>
                          <a:ea typeface="MS Reference Specialty"/>
                        </a:rPr>
                        <a:t>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x(-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MS Reference Specialty"/>
                          <a:ea typeface="MS Reference Specialty"/>
                        </a:rPr>
                        <a:t>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x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(2,5)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3059280" y="260280"/>
            <a:ext cx="43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№ 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2. Заполните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54560" y="2852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a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b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364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-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7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04000" y="3500280"/>
            <a:ext cx="136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1/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75640" y="4076640"/>
            <a:ext cx="129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y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4720" y="4797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38560" y="4797360"/>
            <a:ext cx="9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5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46920" y="4797360"/>
            <a:ext cx="9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5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58920" y="4149720"/>
            <a:ext cx="1584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-2197080" y="1844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189000"/>
            <a:ext cx="7705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Из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  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 - 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3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;  3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;  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3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0,2)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иш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члены стандартного ви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одночлены нестандартного вида (и приведите их к стандартному вид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335772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Запишите 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очле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выражений, не являющихся одночлен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одночленов стандартного ви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одночленов нестандарт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1484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у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- 5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у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 3x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p;  3a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b;  a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256536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0,5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у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 = 3х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3x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(0,2)x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=0,6х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7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84360" y="47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Запишите стандартный вид следующих одн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хууу =                  ;    2)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с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                 ;  3) а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х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х =             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...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=                     ;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1618920" y="1772640"/>
            <a:ext cx="287640" cy="1440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3213000"/>
            <a:ext cx="7561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Найдите числовые значения одночл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;  2) 0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x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; 3)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-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5) -</a:t>
            </a:r>
            <a:r>
              <a:rPr b="1" lang="en-US" sz="24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- 3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4. Это задание вы выполните быстро, если увидите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0920" y="134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134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4с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67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43280" y="206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50920" y="386064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35280" y="378936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88000" y="3789360"/>
            <a:ext cx="50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64360" y="3860640"/>
            <a:ext cx="43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4221000"/>
            <a:ext cx="647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-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8000" y="4221000"/>
            <a:ext cx="57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337040" y="-360"/>
            <a:ext cx="69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какими новыми понятиями вы познакомились на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28960" y="3866040"/>
            <a:ext cx="18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32000" y="836640"/>
            <a:ext cx="32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о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58920" y="1628640"/>
            <a:ext cx="331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58920" y="3933720"/>
            <a:ext cx="32418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58920" y="3141720"/>
            <a:ext cx="32418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32000" y="5516640"/>
            <a:ext cx="31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58920" y="2349360"/>
            <a:ext cx="32418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4653000"/>
            <a:ext cx="31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ндартны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31214E-006 L 0.45278 -0.01041 E">
                                      <p:cBhvr>
                                        <p:cTn id="86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867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2775E-006 L 0.44479 -0.01041 E">
                                      <p:cBhvr>
                                        <p:cTn id="87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16185E-006 L 0.43698 -0.00509 E">
                                      <p:cBhvr>
                                        <p:cTn id="875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93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4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5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6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5896E-006 L 0.44479 0.00532 E">
                                      <p:cBhvr>
                                        <p:cTn id="91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11280" y="1052640"/>
            <a:ext cx="1724040" cy="3168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 rot="2676600">
            <a:off x="1115640" y="2205000"/>
            <a:ext cx="8780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еб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00360" y="19162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пасибо, за работу на уро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40000" y="3213000"/>
            <a:ext cx="6264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пишите задание на 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19,вопросы 1 – 2 (стр. 94), обязательный уровень № 465, № 468,№47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тся посетить дома страничку Интернета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ymath.n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и выполнить тест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http://methmath.chat.ru/Test/7kla/7kla_7/7kla_7.htm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40000" y="1484280"/>
            <a:ext cx="6337440" cy="4897440"/>
          </a:xfrm>
          <a:prstGeom prst="wedgeRoundRectCallout">
            <a:avLst>
              <a:gd name="adj1" fmla="val -59546"/>
              <a:gd name="adj2" fmla="val -46467"/>
              <a:gd name="adj3" fmla="val 16667"/>
            </a:avLst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5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92360" y="907920"/>
            <a:ext cx="5327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Люди, незнакомые с алгеброй, не могут представить себе т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удивительных вещей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которых можно достигнут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при помощи названной науки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b1b51"/>
                </a:solidFill>
                <a:latin typeface="Verdana"/>
              </a:rPr>
              <a:t>Г.В.Лейбниц (1646-1716 гг.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b1b51"/>
                </a:solidFill>
                <a:latin typeface="Verdana"/>
              </a:rPr>
              <a:t>немецкий матема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00000" y="549360"/>
          <a:ext cx="2327400" cy="24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549360"/>
                    <a:ext cx="23274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835280" y="2060640"/>
            <a:ext cx="173340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 rot="2676600">
            <a:off x="2484360" y="3068640"/>
            <a:ext cx="64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еб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-442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867280" y="280836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5640" y="-4428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216000"/>
            <a:ext cx="7993080" cy="69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Запишите следующие алгебра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7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лощадь квадрата со сторо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2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длина окружност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3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 площадь кр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4) </a:t>
            </a:r>
            <a:r>
              <a:rPr b="1" i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шестикратное произведение пятой степен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х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и четвертой степен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5)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роизведение утроенного произведен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и 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у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на удвоенное произведение кубов этих же переменных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6) произведение пятой степени 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четвертую степень 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7)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оловина предыдущего выражения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8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удвоенное произведени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н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9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Учетверенное предыдущее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1951920" y="218664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353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3300"/>
                                  </p:stCondLst>
                                  <p:iterate type="lt">
                                    <p:tmAbs val="75.7142761230469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11900"/>
                                  </p:stCondLst>
                                  <p:iterate type="lt">
                                    <p:tmAbs val="171.764746093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18300"/>
                                  </p:stCondLst>
                                  <p:iterate type="lt">
                                    <p:tmAbs val="165.7143066406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24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38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279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38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657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80100"/>
                                  </p:stCondLst>
                                  <p:iterate type="lt">
                                    <p:tmAbs val="63.9999877929688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84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296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98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7">
                                  <p:stCondLst>
                                    <p:cond delay="108100"/>
                                  </p:stCondLst>
                                  <p:iterate type="lt">
                                    <p:tmAbs val="79.3939819335938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91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32360" y="1557360"/>
            <a:ext cx="838080" cy="2303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3280" y="2133720"/>
            <a:ext cx="864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887640" y="1052640"/>
            <a:ext cx="100044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03640" y="981000"/>
            <a:ext cx="936720" cy="7923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30"/>
                </a:moveTo>
                <a:cubicBezTo>
                  <a:pt x="3" y="26"/>
                  <a:pt x="7" y="22"/>
                  <a:pt x="11" y="21"/>
                </a:cubicBezTo>
                <a:cubicBezTo>
                  <a:pt x="19" y="21"/>
                  <a:pt x="27" y="21"/>
                  <a:pt x="35" y="22"/>
                </a:cubicBezTo>
                <a:cubicBezTo>
                  <a:pt x="39" y="22"/>
                  <a:pt x="46" y="28"/>
                  <a:pt x="46" y="28"/>
                </a:cubicBezTo>
                <a:cubicBezTo>
                  <a:pt x="50" y="25"/>
                  <a:pt x="51" y="25"/>
                  <a:pt x="56" y="26"/>
                </a:cubicBezTo>
                <a:cubicBezTo>
                  <a:pt x="59" y="30"/>
                  <a:pt x="60" y="34"/>
                  <a:pt x="61" y="39"/>
                </a:cubicBezTo>
                <a:cubicBezTo>
                  <a:pt x="59" y="45"/>
                  <a:pt x="55" y="50"/>
                  <a:pt x="62" y="55"/>
                </a:cubicBezTo>
                <a:cubicBezTo>
                  <a:pt x="72" y="53"/>
                  <a:pt x="71" y="43"/>
                  <a:pt x="62" y="40"/>
                </a:cubicBezTo>
                <a:cubicBezTo>
                  <a:pt x="66" y="28"/>
                  <a:pt x="65" y="17"/>
                  <a:pt x="58" y="7"/>
                </a:cubicBezTo>
                <a:cubicBezTo>
                  <a:pt x="55" y="2"/>
                  <a:pt x="41" y="1"/>
                  <a:pt x="41" y="1"/>
                </a:cubicBezTo>
                <a:cubicBezTo>
                  <a:pt x="18" y="2"/>
                  <a:pt x="24" y="0"/>
                  <a:pt x="11" y="8"/>
                </a:cubicBezTo>
                <a:cubicBezTo>
                  <a:pt x="10" y="12"/>
                  <a:pt x="3" y="19"/>
                  <a:pt x="3" y="19"/>
                </a:cubicBezTo>
                <a:cubicBezTo>
                  <a:pt x="2" y="23"/>
                  <a:pt x="1" y="26"/>
                  <a:pt x="0" y="3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Если вы ответили правильно, то все выражения, перечисленные здесь, имеют общее имя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456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128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6021360"/>
            <a:ext cx="97164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5 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292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1964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6360" y="602136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9128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у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28000" y="602136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6436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ху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095640" y="1700280"/>
            <a:ext cx="1019160" cy="857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80000" y="1700280"/>
            <a:ext cx="101916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456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х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1128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4800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8292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964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 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6360" y="551664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ху2х3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9128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х5у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28000" y="551664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6436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21387E-006 L -0.10643 -0.48763 E">
                                      <p:cBhvr>
                                        <p:cTn id="8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77457E-006 L 0.31112 -0.56116 E">
                                      <p:cBhvr>
                                        <p:cTn id="8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77457E-006 L -0.00382 -0.56116 E">
                                      <p:cBhvr>
                                        <p:cTn id="9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21387E-006 L -0.20868 -0.48763 E">
                                      <p:cBhvr>
                                        <p:cTn id="9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7457E-006 L -0.40555 -0.56116 E">
                                      <p:cBhvr>
                                        <p:cTn id="10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7457E-006 L -0.39774 -0.56116 E">
                                      <p:cBhvr>
                                        <p:cTn id="10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1387E-006 L 0.21667 -0.48763 E">
                                      <p:cBhvr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7457E-006 L 0.31094 -0.56116 E">
                                      <p:cBhvr>
                                        <p:cTn id="11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77457E-006 L 0.41736 -0.56116 E">
                                      <p:cBhvr>
                                        <p:cTn id="12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0"/>
            <a:ext cx="831708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1. 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Алгебраическое выражение , содержащее произведение чисел, переменных  и их степеней.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2. Алгебраическое выражение, содержащее произведение перем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3. Алгебраическо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ыражение, содержащее только действия умножения и возведения в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4. Алгебраическо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ыражение, содержащее перемен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5. Алгебраическо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ыражение,  представляющее собой произведение, множителями которого могут являться числа, одно или несколько переменных, каждое из которых взято в некоторой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53532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http://school-collection.edu.ru/catalog/search/?text=%EE%E4%ED%EE%F7%EB%E5%ED%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692360" y="538200"/>
            <a:ext cx="5975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34920" y="260280"/>
            <a:ext cx="820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7e"/>
                </a:solidFill>
                <a:latin typeface="Comic Sans MS"/>
              </a:rPr>
              <a:t>Каждый ли одночлен можно привести к стандартному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7e"/>
                </a:solidFill>
                <a:latin typeface="Comic Sans MS"/>
              </a:rPr>
              <a:t>ви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5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a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c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(0,2)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a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c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  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=</a:t>
            </a:r>
            <a:r>
              <a:rPr b="1" lang="ru-RU" sz="4400" spc="-1" strike="noStrike">
                <a:solidFill>
                  <a:srgbClr val="00007e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04080" y="3357720"/>
            <a:ext cx="70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e"/>
                </a:solidFill>
                <a:latin typeface="Arial"/>
              </a:rPr>
              <a:t>(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5 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.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 0,2) (а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а 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) (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) (сс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479736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51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=1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.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а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5.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.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с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 = а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5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с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92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8388360" cy="6819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93960" y="1619280"/>
            <a:ext cx="1741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97040" y="428760"/>
            <a:ext cx="590400" cy="591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27280" y="765000"/>
            <a:ext cx="531720" cy="158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1653480" y="380880"/>
            <a:ext cx="539640" cy="48600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30"/>
                </a:moveTo>
                <a:cubicBezTo>
                  <a:pt x="3" y="26"/>
                  <a:pt x="7" y="22"/>
                  <a:pt x="11" y="21"/>
                </a:cubicBezTo>
                <a:cubicBezTo>
                  <a:pt x="19" y="21"/>
                  <a:pt x="27" y="21"/>
                  <a:pt x="35" y="22"/>
                </a:cubicBezTo>
                <a:cubicBezTo>
                  <a:pt x="39" y="22"/>
                  <a:pt x="46" y="28"/>
                  <a:pt x="46" y="28"/>
                </a:cubicBezTo>
                <a:cubicBezTo>
                  <a:pt x="50" y="25"/>
                  <a:pt x="51" y="25"/>
                  <a:pt x="56" y="26"/>
                </a:cubicBezTo>
                <a:cubicBezTo>
                  <a:pt x="59" y="30"/>
                  <a:pt x="60" y="34"/>
                  <a:pt x="61" y="39"/>
                </a:cubicBezTo>
                <a:cubicBezTo>
                  <a:pt x="59" y="45"/>
                  <a:pt x="55" y="50"/>
                  <a:pt x="62" y="55"/>
                </a:cubicBezTo>
                <a:cubicBezTo>
                  <a:pt x="72" y="53"/>
                  <a:pt x="71" y="43"/>
                  <a:pt x="62" y="40"/>
                </a:cubicBezTo>
                <a:cubicBezTo>
                  <a:pt x="66" y="28"/>
                  <a:pt x="65" y="17"/>
                  <a:pt x="58" y="7"/>
                </a:cubicBezTo>
                <a:cubicBezTo>
                  <a:pt x="55" y="2"/>
                  <a:pt x="41" y="1"/>
                  <a:pt x="41" y="1"/>
                </a:cubicBezTo>
                <a:cubicBezTo>
                  <a:pt x="18" y="2"/>
                  <a:pt x="24" y="0"/>
                  <a:pt x="11" y="8"/>
                </a:cubicBezTo>
                <a:cubicBezTo>
                  <a:pt x="10" y="12"/>
                  <a:pt x="3" y="19"/>
                  <a:pt x="3" y="19"/>
                </a:cubicBezTo>
                <a:cubicBezTo>
                  <a:pt x="2" y="23"/>
                  <a:pt x="1" y="26"/>
                  <a:pt x="0" y="3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1052640"/>
            <a:ext cx="174132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289400" y="380880"/>
            <a:ext cx="590400" cy="5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4375080" y="714240"/>
            <a:ext cx="493920" cy="1621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>
            <a:off x="4245840" y="333360"/>
            <a:ext cx="539640" cy="48564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30"/>
                </a:moveTo>
                <a:cubicBezTo>
                  <a:pt x="3" y="26"/>
                  <a:pt x="7" y="22"/>
                  <a:pt x="11" y="21"/>
                </a:cubicBezTo>
                <a:cubicBezTo>
                  <a:pt x="19" y="21"/>
                  <a:pt x="27" y="21"/>
                  <a:pt x="35" y="22"/>
                </a:cubicBezTo>
                <a:cubicBezTo>
                  <a:pt x="39" y="22"/>
                  <a:pt x="46" y="28"/>
                  <a:pt x="46" y="28"/>
                </a:cubicBezTo>
                <a:cubicBezTo>
                  <a:pt x="50" y="25"/>
                  <a:pt x="51" y="25"/>
                  <a:pt x="56" y="26"/>
                </a:cubicBezTo>
                <a:cubicBezTo>
                  <a:pt x="59" y="30"/>
                  <a:pt x="60" y="34"/>
                  <a:pt x="61" y="39"/>
                </a:cubicBezTo>
                <a:cubicBezTo>
                  <a:pt x="59" y="45"/>
                  <a:pt x="55" y="50"/>
                  <a:pt x="62" y="55"/>
                </a:cubicBezTo>
                <a:cubicBezTo>
                  <a:pt x="72" y="53"/>
                  <a:pt x="71" y="43"/>
                  <a:pt x="62" y="40"/>
                </a:cubicBezTo>
                <a:cubicBezTo>
                  <a:pt x="66" y="28"/>
                  <a:pt x="65" y="17"/>
                  <a:pt x="58" y="7"/>
                </a:cubicBezTo>
                <a:cubicBezTo>
                  <a:pt x="55" y="2"/>
                  <a:pt x="41" y="1"/>
                  <a:pt x="41" y="1"/>
                </a:cubicBezTo>
                <a:cubicBezTo>
                  <a:pt x="18" y="2"/>
                  <a:pt x="24" y="0"/>
                  <a:pt x="11" y="8"/>
                </a:cubicBezTo>
                <a:cubicBezTo>
                  <a:pt x="10" y="12"/>
                  <a:pt x="3" y="19"/>
                  <a:pt x="3" y="19"/>
                </a:cubicBezTo>
                <a:cubicBezTo>
                  <a:pt x="2" y="23"/>
                  <a:pt x="1" y="26"/>
                  <a:pt x="0" y="30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1120" y="1000080"/>
            <a:ext cx="1784520" cy="106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7048440" y="431640"/>
            <a:ext cx="59076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7093080" y="765000"/>
            <a:ext cx="493560" cy="1573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72360" y="1052640"/>
            <a:ext cx="2124000" cy="9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1187280" y="714240"/>
            <a:ext cx="601920" cy="567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3822840" y="714240"/>
            <a:ext cx="599760" cy="567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6541920" y="766800"/>
            <a:ext cx="601920" cy="568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2397240" y="3114720"/>
            <a:ext cx="849240" cy="60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5"/>
          <a:stretch/>
        </p:blipFill>
        <p:spPr>
          <a:xfrm>
            <a:off x="2455920" y="3456000"/>
            <a:ext cx="716040" cy="1697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2340000" y="2997360"/>
            <a:ext cx="792000" cy="63648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30"/>
                </a:moveTo>
                <a:cubicBezTo>
                  <a:pt x="3" y="26"/>
                  <a:pt x="7" y="22"/>
                  <a:pt x="11" y="21"/>
                </a:cubicBezTo>
                <a:cubicBezTo>
                  <a:pt x="19" y="21"/>
                  <a:pt x="27" y="21"/>
                  <a:pt x="35" y="22"/>
                </a:cubicBezTo>
                <a:cubicBezTo>
                  <a:pt x="39" y="22"/>
                  <a:pt x="46" y="28"/>
                  <a:pt x="46" y="28"/>
                </a:cubicBezTo>
                <a:cubicBezTo>
                  <a:pt x="50" y="25"/>
                  <a:pt x="51" y="25"/>
                  <a:pt x="56" y="26"/>
                </a:cubicBezTo>
                <a:cubicBezTo>
                  <a:pt x="59" y="30"/>
                  <a:pt x="60" y="34"/>
                  <a:pt x="61" y="39"/>
                </a:cubicBezTo>
                <a:cubicBezTo>
                  <a:pt x="59" y="45"/>
                  <a:pt x="55" y="50"/>
                  <a:pt x="62" y="55"/>
                </a:cubicBezTo>
                <a:cubicBezTo>
                  <a:pt x="72" y="53"/>
                  <a:pt x="71" y="43"/>
                  <a:pt x="62" y="40"/>
                </a:cubicBezTo>
                <a:cubicBezTo>
                  <a:pt x="66" y="28"/>
                  <a:pt x="65" y="17"/>
                  <a:pt x="58" y="7"/>
                </a:cubicBezTo>
                <a:cubicBezTo>
                  <a:pt x="55" y="2"/>
                  <a:pt x="41" y="1"/>
                  <a:pt x="41" y="1"/>
                </a:cubicBezTo>
                <a:cubicBezTo>
                  <a:pt x="18" y="2"/>
                  <a:pt x="24" y="0"/>
                  <a:pt x="11" y="8"/>
                </a:cubicBezTo>
                <a:cubicBezTo>
                  <a:pt x="10" y="12"/>
                  <a:pt x="3" y="19"/>
                  <a:pt x="3" y="19"/>
                </a:cubicBezTo>
                <a:cubicBezTo>
                  <a:pt x="2" y="23"/>
                  <a:pt x="1" y="26"/>
                  <a:pt x="0" y="30"/>
                </a:cubicBez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3719520"/>
            <a:ext cx="3673800" cy="9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1720800" y="3456000"/>
            <a:ext cx="8701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"/>
          <a:stretch/>
        </p:blipFill>
        <p:spPr>
          <a:xfrm>
            <a:off x="3008160" y="3503520"/>
            <a:ext cx="868680" cy="577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9"/>
          <a:stretch/>
        </p:blipFill>
        <p:spPr>
          <a:xfrm>
            <a:off x="7415280" y="3381480"/>
            <a:ext cx="573120" cy="1631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35640" y="3716280"/>
            <a:ext cx="3024000" cy="9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0"/>
          <a:stretch/>
        </p:blipFill>
        <p:spPr>
          <a:xfrm>
            <a:off x="7318440" y="3046320"/>
            <a:ext cx="682560" cy="595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7236000" y="2997360"/>
            <a:ext cx="720720" cy="63180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30"/>
                </a:moveTo>
                <a:cubicBezTo>
                  <a:pt x="3" y="26"/>
                  <a:pt x="7" y="22"/>
                  <a:pt x="11" y="21"/>
                </a:cubicBezTo>
                <a:cubicBezTo>
                  <a:pt x="19" y="21"/>
                  <a:pt x="27" y="21"/>
                  <a:pt x="35" y="22"/>
                </a:cubicBezTo>
                <a:cubicBezTo>
                  <a:pt x="39" y="22"/>
                  <a:pt x="46" y="28"/>
                  <a:pt x="46" y="28"/>
                </a:cubicBezTo>
                <a:cubicBezTo>
                  <a:pt x="50" y="25"/>
                  <a:pt x="51" y="25"/>
                  <a:pt x="56" y="26"/>
                </a:cubicBezTo>
                <a:cubicBezTo>
                  <a:pt x="59" y="30"/>
                  <a:pt x="60" y="34"/>
                  <a:pt x="61" y="39"/>
                </a:cubicBezTo>
                <a:cubicBezTo>
                  <a:pt x="59" y="45"/>
                  <a:pt x="55" y="50"/>
                  <a:pt x="62" y="55"/>
                </a:cubicBezTo>
                <a:cubicBezTo>
                  <a:pt x="72" y="53"/>
                  <a:pt x="71" y="43"/>
                  <a:pt x="62" y="40"/>
                </a:cubicBezTo>
                <a:cubicBezTo>
                  <a:pt x="66" y="28"/>
                  <a:pt x="65" y="17"/>
                  <a:pt x="58" y="7"/>
                </a:cubicBezTo>
                <a:cubicBezTo>
                  <a:pt x="55" y="2"/>
                  <a:pt x="41" y="1"/>
                  <a:pt x="41" y="1"/>
                </a:cubicBezTo>
                <a:cubicBezTo>
                  <a:pt x="18" y="2"/>
                  <a:pt x="24" y="0"/>
                  <a:pt x="11" y="8"/>
                </a:cubicBezTo>
                <a:cubicBezTo>
                  <a:pt x="10" y="12"/>
                  <a:pt x="3" y="19"/>
                  <a:pt x="3" y="19"/>
                </a:cubicBezTo>
                <a:cubicBezTo>
                  <a:pt x="2" y="23"/>
                  <a:pt x="1" y="26"/>
                  <a:pt x="0" y="30"/>
                </a:cubicBez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2"/>
          <a:stretch/>
        </p:blipFill>
        <p:spPr>
          <a:xfrm>
            <a:off x="6516720" y="3429000"/>
            <a:ext cx="695160" cy="573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3"/>
          <a:stretch/>
        </p:blipFill>
        <p:spPr>
          <a:xfrm>
            <a:off x="7812000" y="3429000"/>
            <a:ext cx="696960" cy="57312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419640" y="4437000"/>
            <a:ext cx="5482800" cy="1939320"/>
            <a:chOff x="3419640" y="4437000"/>
            <a:chExt cx="5482800" cy="1939320"/>
          </a:xfrm>
        </p:grpSpPr>
        <p:pic>
          <p:nvPicPr>
            <p:cNvPr id="166" name="" descr=""/>
            <p:cNvPicPr/>
            <p:nvPr/>
          </p:nvPicPr>
          <p:blipFill>
            <a:blip r:embed="rId24"/>
            <a:stretch/>
          </p:blipFill>
          <p:spPr>
            <a:xfrm>
              <a:off x="3793320" y="4884840"/>
              <a:ext cx="512640" cy="149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541680" y="5104080"/>
              <a:ext cx="5360760" cy="99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25"/>
            <a:stretch/>
          </p:blipFill>
          <p:spPr>
            <a:xfrm>
              <a:off x="3748320" y="4487400"/>
              <a:ext cx="613440" cy="6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880080" y="4437000"/>
              <a:ext cx="573480" cy="539280"/>
            </a:xfrm>
            <a:custGeom>
              <a:avLst/>
              <a:gdLst/>
              <a:ahLst/>
              <a:rect l="l" t="t" r="r" b="b"/>
              <a:pathLst>
                <a:path w="72" h="55">
                  <a:moveTo>
                    <a:pt x="0" y="30"/>
                  </a:moveTo>
                  <a:cubicBezTo>
                    <a:pt x="3" y="26"/>
                    <a:pt x="7" y="22"/>
                    <a:pt x="11" y="21"/>
                  </a:cubicBezTo>
                  <a:cubicBezTo>
                    <a:pt x="19" y="21"/>
                    <a:pt x="27" y="21"/>
                    <a:pt x="35" y="22"/>
                  </a:cubicBezTo>
                  <a:cubicBezTo>
                    <a:pt x="39" y="22"/>
                    <a:pt x="46" y="28"/>
                    <a:pt x="46" y="28"/>
                  </a:cubicBezTo>
                  <a:cubicBezTo>
                    <a:pt x="50" y="25"/>
                    <a:pt x="51" y="25"/>
                    <a:pt x="56" y="26"/>
                  </a:cubicBezTo>
                  <a:cubicBezTo>
                    <a:pt x="59" y="30"/>
                    <a:pt x="60" y="34"/>
                    <a:pt x="61" y="39"/>
                  </a:cubicBezTo>
                  <a:cubicBezTo>
                    <a:pt x="59" y="45"/>
                    <a:pt x="55" y="50"/>
                    <a:pt x="62" y="55"/>
                  </a:cubicBezTo>
                  <a:cubicBezTo>
                    <a:pt x="72" y="53"/>
                    <a:pt x="71" y="43"/>
                    <a:pt x="62" y="40"/>
                  </a:cubicBezTo>
                  <a:cubicBezTo>
                    <a:pt x="66" y="28"/>
                    <a:pt x="65" y="17"/>
                    <a:pt x="58" y="7"/>
                  </a:cubicBezTo>
                  <a:cubicBezTo>
                    <a:pt x="55" y="2"/>
                    <a:pt x="41" y="1"/>
                    <a:pt x="41" y="1"/>
                  </a:cubicBezTo>
                  <a:cubicBezTo>
                    <a:pt x="18" y="2"/>
                    <a:pt x="24" y="0"/>
                    <a:pt x="11" y="8"/>
                  </a:cubicBezTo>
                  <a:cubicBezTo>
                    <a:pt x="10" y="12"/>
                    <a:pt x="3" y="19"/>
                    <a:pt x="3" y="19"/>
                  </a:cubicBezTo>
                  <a:cubicBezTo>
                    <a:pt x="2" y="23"/>
                    <a:pt x="1" y="26"/>
                    <a:pt x="0" y="30"/>
                  </a:cubicBez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7"/>
            <a:stretch/>
          </p:blipFill>
          <p:spPr>
            <a:xfrm>
              <a:off x="3419640" y="4855320"/>
              <a:ext cx="623160" cy="5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8"/>
            <a:stretch/>
          </p:blipFill>
          <p:spPr>
            <a:xfrm>
              <a:off x="4498560" y="4855320"/>
              <a:ext cx="625320" cy="589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03280" y="1052640"/>
                <a:ext cx="1657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635280" y="981000"/>
                <a:ext cx="1800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443640" y="1125360"/>
                <a:ext cx="19828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826920" y="3573360"/>
                <a:ext cx="35895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635280" y="5084640"/>
                <a:ext cx="50403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⋅</m:t>
                    </m:r>
                    <m:r>
                      <m:t xml:space="preserve">0,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08720" y="3789360"/>
                <a:ext cx="273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H="1">
            <a:off x="7019280" y="404640"/>
            <a:ext cx="539640" cy="48600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30"/>
                </a:moveTo>
                <a:cubicBezTo>
                  <a:pt x="3" y="26"/>
                  <a:pt x="7" y="22"/>
                  <a:pt x="11" y="21"/>
                </a:cubicBezTo>
                <a:cubicBezTo>
                  <a:pt x="19" y="21"/>
                  <a:pt x="27" y="21"/>
                  <a:pt x="35" y="22"/>
                </a:cubicBezTo>
                <a:cubicBezTo>
                  <a:pt x="39" y="22"/>
                  <a:pt x="46" y="28"/>
                  <a:pt x="46" y="28"/>
                </a:cubicBezTo>
                <a:cubicBezTo>
                  <a:pt x="50" y="25"/>
                  <a:pt x="51" y="25"/>
                  <a:pt x="56" y="26"/>
                </a:cubicBezTo>
                <a:cubicBezTo>
                  <a:pt x="59" y="30"/>
                  <a:pt x="60" y="34"/>
                  <a:pt x="61" y="39"/>
                </a:cubicBezTo>
                <a:cubicBezTo>
                  <a:pt x="59" y="45"/>
                  <a:pt x="55" y="50"/>
                  <a:pt x="62" y="55"/>
                </a:cubicBezTo>
                <a:cubicBezTo>
                  <a:pt x="72" y="53"/>
                  <a:pt x="71" y="43"/>
                  <a:pt x="62" y="40"/>
                </a:cubicBezTo>
                <a:cubicBezTo>
                  <a:pt x="66" y="28"/>
                  <a:pt x="65" y="17"/>
                  <a:pt x="58" y="7"/>
                </a:cubicBezTo>
                <a:cubicBezTo>
                  <a:pt x="55" y="2"/>
                  <a:pt x="41" y="1"/>
                  <a:pt x="41" y="1"/>
                </a:cubicBezTo>
                <a:cubicBezTo>
                  <a:pt x="18" y="2"/>
                  <a:pt x="24" y="0"/>
                  <a:pt x="11" y="8"/>
                </a:cubicBezTo>
                <a:cubicBezTo>
                  <a:pt x="10" y="12"/>
                  <a:pt x="3" y="19"/>
                  <a:pt x="3" y="19"/>
                </a:cubicBezTo>
                <a:cubicBezTo>
                  <a:pt x="2" y="23"/>
                  <a:pt x="1" y="26"/>
                  <a:pt x="0" y="30"/>
                </a:cubicBez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e"/>
                </a:solidFill>
                <a:latin typeface="Comic Sans MS"/>
              </a:rPr>
              <a:t>Одночлены стандарт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2421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e"/>
                </a:solidFill>
                <a:latin typeface="Comic Sans MS"/>
              </a:rPr>
              <a:t>Одночлены нестандарт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16000" y="333360"/>
            <a:ext cx="1944720" cy="2376360"/>
            <a:chOff x="1116000" y="333360"/>
            <a:chExt cx="1944720" cy="2376360"/>
          </a:xfrm>
        </p:grpSpPr>
        <p:sp>
          <p:nvSpPr>
            <p:cNvPr id="186" name=""/>
            <p:cNvSpPr/>
            <p:nvPr/>
          </p:nvSpPr>
          <p:spPr>
            <a:xfrm>
              <a:off x="1116000" y="333360"/>
              <a:ext cx="1944720" cy="2376360"/>
            </a:xfrm>
            <a:prstGeom prst="hexagon">
              <a:avLst>
                <a:gd name="adj" fmla="val 25000"/>
                <a:gd name="vf" fmla="val 11547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cap="rnd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1886040" y="507960"/>
              <a:ext cx="55728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"/>
            <a:stretch/>
          </p:blipFill>
          <p:spPr>
            <a:xfrm>
              <a:off x="1979640" y="836640"/>
              <a:ext cx="4366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014560" y="507960"/>
              <a:ext cx="550800" cy="438120"/>
            </a:xfrm>
            <a:custGeom>
              <a:avLst/>
              <a:gdLst/>
              <a:ahLst/>
              <a:rect l="l" t="t" r="r" b="b"/>
              <a:pathLst>
                <a:path w="72" h="55">
                  <a:moveTo>
                    <a:pt x="0" y="30"/>
                  </a:moveTo>
                  <a:cubicBezTo>
                    <a:pt x="3" y="26"/>
                    <a:pt x="7" y="22"/>
                    <a:pt x="11" y="21"/>
                  </a:cubicBezTo>
                  <a:cubicBezTo>
                    <a:pt x="19" y="21"/>
                    <a:pt x="27" y="21"/>
                    <a:pt x="35" y="22"/>
                  </a:cubicBezTo>
                  <a:cubicBezTo>
                    <a:pt x="39" y="22"/>
                    <a:pt x="46" y="28"/>
                    <a:pt x="46" y="28"/>
                  </a:cubicBezTo>
                  <a:cubicBezTo>
                    <a:pt x="50" y="25"/>
                    <a:pt x="51" y="25"/>
                    <a:pt x="56" y="26"/>
                  </a:cubicBezTo>
                  <a:cubicBezTo>
                    <a:pt x="59" y="30"/>
                    <a:pt x="60" y="34"/>
                    <a:pt x="61" y="39"/>
                  </a:cubicBezTo>
                  <a:cubicBezTo>
                    <a:pt x="59" y="45"/>
                    <a:pt x="55" y="50"/>
                    <a:pt x="62" y="55"/>
                  </a:cubicBezTo>
                  <a:cubicBezTo>
                    <a:pt x="72" y="53"/>
                    <a:pt x="71" y="43"/>
                    <a:pt x="62" y="40"/>
                  </a:cubicBezTo>
                  <a:cubicBezTo>
                    <a:pt x="66" y="28"/>
                    <a:pt x="65" y="17"/>
                    <a:pt x="58" y="7"/>
                  </a:cubicBezTo>
                  <a:cubicBezTo>
                    <a:pt x="55" y="2"/>
                    <a:pt x="41" y="1"/>
                    <a:pt x="41" y="1"/>
                  </a:cubicBezTo>
                  <a:cubicBezTo>
                    <a:pt x="18" y="2"/>
                    <a:pt x="24" y="0"/>
                    <a:pt x="11" y="8"/>
                  </a:cubicBezTo>
                  <a:cubicBezTo>
                    <a:pt x="10" y="12"/>
                    <a:pt x="3" y="19"/>
                    <a:pt x="3" y="19"/>
                  </a:cubicBezTo>
                  <a:cubicBezTo>
                    <a:pt x="2" y="23"/>
                    <a:pt x="1" y="26"/>
                    <a:pt x="0" y="3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32000" y="1052640"/>
              <a:ext cx="1504800" cy="80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659640" y="404640"/>
            <a:ext cx="2087640" cy="2376720"/>
            <a:chOff x="6659640" y="404640"/>
            <a:chExt cx="2087640" cy="2376720"/>
          </a:xfrm>
        </p:grpSpPr>
        <p:sp>
          <p:nvSpPr>
            <p:cNvPr id="192" name=""/>
            <p:cNvSpPr/>
            <p:nvPr/>
          </p:nvSpPr>
          <p:spPr>
            <a:xfrm>
              <a:off x="6659640" y="404640"/>
              <a:ext cx="2087640" cy="2376720"/>
            </a:xfrm>
            <a:custGeom>
              <a:avLst/>
              <a:gdLst>
                <a:gd name="textAreaLeft" fmla="*/ 245880 w 2087640"/>
                <a:gd name="textAreaRight" fmla="*/ 1841760 w 2087640"/>
                <a:gd name="textAreaTop" fmla="*/ 245880 h 2376720"/>
                <a:gd name="textAreaBottom" fmla="*/ 2130840 h 2376720"/>
              </a:gdLst>
              <a:ahLst/>
              <a:rect l="textAreaLeft" t="textAreaTop" r="textAreaRight" b="textAreaBottom"/>
              <a:pathLst>
                <a:path w="21600" h="24590">
                  <a:moveTo>
                    <a:pt x="3600" y="0"/>
                  </a:moveTo>
                  <a:arcTo wR="3600" hR="3600" stAng="0" swAng="5400000"/>
                  <a:lnTo>
                    <a:pt x="0" y="20990"/>
                  </a:lnTo>
                  <a:arcTo wR="3600" hR="3600" stAng="16200000" swAng="5400000"/>
                  <a:lnTo>
                    <a:pt x="18000" y="2459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7558200" y="635040"/>
              <a:ext cx="52524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9"/>
            <a:stretch/>
          </p:blipFill>
          <p:spPr>
            <a:xfrm>
              <a:off x="7596360" y="1052640"/>
              <a:ext cx="41724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H="1" rot="575400">
              <a:off x="7442640" y="615600"/>
              <a:ext cx="577800" cy="498240"/>
            </a:xfrm>
            <a:custGeom>
              <a:avLst/>
              <a:gdLst/>
              <a:ahLst/>
              <a:rect l="l" t="t" r="r" b="b"/>
              <a:pathLst>
                <a:path w="72" h="55">
                  <a:moveTo>
                    <a:pt x="0" y="30"/>
                  </a:moveTo>
                  <a:cubicBezTo>
                    <a:pt x="3" y="26"/>
                    <a:pt x="7" y="22"/>
                    <a:pt x="11" y="21"/>
                  </a:cubicBezTo>
                  <a:cubicBezTo>
                    <a:pt x="19" y="21"/>
                    <a:pt x="27" y="21"/>
                    <a:pt x="35" y="22"/>
                  </a:cubicBezTo>
                  <a:cubicBezTo>
                    <a:pt x="39" y="22"/>
                    <a:pt x="46" y="28"/>
                    <a:pt x="46" y="28"/>
                  </a:cubicBezTo>
                  <a:cubicBezTo>
                    <a:pt x="50" y="25"/>
                    <a:pt x="51" y="25"/>
                    <a:pt x="56" y="26"/>
                  </a:cubicBezTo>
                  <a:cubicBezTo>
                    <a:pt x="59" y="30"/>
                    <a:pt x="60" y="34"/>
                    <a:pt x="61" y="39"/>
                  </a:cubicBezTo>
                  <a:cubicBezTo>
                    <a:pt x="59" y="45"/>
                    <a:pt x="55" y="50"/>
                    <a:pt x="62" y="55"/>
                  </a:cubicBezTo>
                  <a:cubicBezTo>
                    <a:pt x="72" y="53"/>
                    <a:pt x="71" y="43"/>
                    <a:pt x="62" y="40"/>
                  </a:cubicBezTo>
                  <a:cubicBezTo>
                    <a:pt x="66" y="28"/>
                    <a:pt x="65" y="17"/>
                    <a:pt x="58" y="7"/>
                  </a:cubicBezTo>
                  <a:cubicBezTo>
                    <a:pt x="55" y="2"/>
                    <a:pt x="41" y="1"/>
                    <a:pt x="41" y="1"/>
                  </a:cubicBezTo>
                  <a:cubicBezTo>
                    <a:pt x="18" y="2"/>
                    <a:pt x="24" y="0"/>
                    <a:pt x="11" y="8"/>
                  </a:cubicBezTo>
                  <a:cubicBezTo>
                    <a:pt x="10" y="12"/>
                    <a:pt x="3" y="19"/>
                    <a:pt x="3" y="19"/>
                  </a:cubicBezTo>
                  <a:cubicBezTo>
                    <a:pt x="2" y="23"/>
                    <a:pt x="1" y="26"/>
                    <a:pt x="0" y="30"/>
                  </a:cubicBez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2720" y="1268280"/>
              <a:ext cx="2011320" cy="96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</a:rPr>
                <a:t>4х</a:t>
              </a:r>
              <a:r>
                <a:rPr b="1" i="1" lang="ru-RU" sz="4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900000" y="3500280"/>
            <a:ext cx="2519640" cy="2952720"/>
            <a:chOff x="900000" y="3500280"/>
            <a:chExt cx="2519640" cy="2952720"/>
          </a:xfrm>
        </p:grpSpPr>
        <p:sp>
          <p:nvSpPr>
            <p:cNvPr id="198" name=""/>
            <p:cNvSpPr/>
            <p:nvPr/>
          </p:nvSpPr>
          <p:spPr>
            <a:xfrm>
              <a:off x="900000" y="3500280"/>
              <a:ext cx="2519640" cy="29527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2"/>
            <a:stretch/>
          </p:blipFill>
          <p:spPr>
            <a:xfrm>
              <a:off x="1818000" y="3747600"/>
              <a:ext cx="754200" cy="60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3"/>
            <a:stretch/>
          </p:blipFill>
          <p:spPr>
            <a:xfrm>
              <a:off x="1909080" y="4116960"/>
              <a:ext cx="55548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flipH="1">
              <a:off x="1771920" y="3701880"/>
              <a:ext cx="669600" cy="597240"/>
            </a:xfrm>
            <a:custGeom>
              <a:avLst/>
              <a:gdLst/>
              <a:ahLst/>
              <a:rect l="l" t="t" r="r" b="b"/>
              <a:pathLst>
                <a:path w="72" h="55">
                  <a:moveTo>
                    <a:pt x="0" y="30"/>
                  </a:moveTo>
                  <a:cubicBezTo>
                    <a:pt x="3" y="26"/>
                    <a:pt x="7" y="22"/>
                    <a:pt x="11" y="21"/>
                  </a:cubicBezTo>
                  <a:cubicBezTo>
                    <a:pt x="19" y="21"/>
                    <a:pt x="27" y="21"/>
                    <a:pt x="35" y="22"/>
                  </a:cubicBezTo>
                  <a:cubicBezTo>
                    <a:pt x="39" y="22"/>
                    <a:pt x="46" y="28"/>
                    <a:pt x="46" y="28"/>
                  </a:cubicBezTo>
                  <a:cubicBezTo>
                    <a:pt x="50" y="25"/>
                    <a:pt x="51" y="25"/>
                    <a:pt x="56" y="26"/>
                  </a:cubicBezTo>
                  <a:cubicBezTo>
                    <a:pt x="59" y="30"/>
                    <a:pt x="60" y="34"/>
                    <a:pt x="61" y="39"/>
                  </a:cubicBezTo>
                  <a:cubicBezTo>
                    <a:pt x="59" y="45"/>
                    <a:pt x="55" y="50"/>
                    <a:pt x="62" y="55"/>
                  </a:cubicBezTo>
                  <a:cubicBezTo>
                    <a:pt x="72" y="53"/>
                    <a:pt x="71" y="43"/>
                    <a:pt x="62" y="40"/>
                  </a:cubicBezTo>
                  <a:cubicBezTo>
                    <a:pt x="66" y="28"/>
                    <a:pt x="65" y="17"/>
                    <a:pt x="58" y="7"/>
                  </a:cubicBezTo>
                  <a:cubicBezTo>
                    <a:pt x="55" y="2"/>
                    <a:pt x="41" y="1"/>
                    <a:pt x="41" y="1"/>
                  </a:cubicBezTo>
                  <a:cubicBezTo>
                    <a:pt x="18" y="2"/>
                    <a:pt x="24" y="0"/>
                    <a:pt x="11" y="8"/>
                  </a:cubicBezTo>
                  <a:cubicBezTo>
                    <a:pt x="10" y="12"/>
                    <a:pt x="3" y="19"/>
                    <a:pt x="3" y="19"/>
                  </a:cubicBezTo>
                  <a:cubicBezTo>
                    <a:pt x="2" y="23"/>
                    <a:pt x="1" y="26"/>
                    <a:pt x="0" y="30"/>
                  </a:cubicBez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2520" y="4468680"/>
              <a:ext cx="2323440" cy="10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-4x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659640" y="3500280"/>
            <a:ext cx="2016000" cy="2808360"/>
          </a:xfrm>
          <a:prstGeom prst="octagon">
            <a:avLst>
              <a:gd name="adj" fmla="val 29287"/>
            </a:avLst>
          </a:prstGeom>
          <a:blipFill rotWithShape="0">
            <a:blip r:embed="rId15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6"/>
          <a:stretch/>
        </p:blipFill>
        <p:spPr>
          <a:xfrm>
            <a:off x="7308720" y="3933720"/>
            <a:ext cx="720720" cy="587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7"/>
          <a:stretch/>
        </p:blipFill>
        <p:spPr>
          <a:xfrm>
            <a:off x="7380360" y="4292640"/>
            <a:ext cx="635040" cy="1368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21210000">
            <a:off x="7454880" y="3863520"/>
            <a:ext cx="576360" cy="50508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30"/>
                </a:moveTo>
                <a:cubicBezTo>
                  <a:pt x="3" y="26"/>
                  <a:pt x="7" y="22"/>
                  <a:pt x="11" y="21"/>
                </a:cubicBezTo>
                <a:cubicBezTo>
                  <a:pt x="19" y="21"/>
                  <a:pt x="27" y="21"/>
                  <a:pt x="35" y="22"/>
                </a:cubicBezTo>
                <a:cubicBezTo>
                  <a:pt x="39" y="22"/>
                  <a:pt x="46" y="28"/>
                  <a:pt x="46" y="28"/>
                </a:cubicBezTo>
                <a:cubicBezTo>
                  <a:pt x="50" y="25"/>
                  <a:pt x="51" y="25"/>
                  <a:pt x="56" y="26"/>
                </a:cubicBezTo>
                <a:cubicBezTo>
                  <a:pt x="59" y="30"/>
                  <a:pt x="60" y="34"/>
                  <a:pt x="61" y="39"/>
                </a:cubicBezTo>
                <a:cubicBezTo>
                  <a:pt x="59" y="45"/>
                  <a:pt x="55" y="50"/>
                  <a:pt x="62" y="55"/>
                </a:cubicBezTo>
                <a:cubicBezTo>
                  <a:pt x="72" y="53"/>
                  <a:pt x="71" y="43"/>
                  <a:pt x="62" y="40"/>
                </a:cubicBezTo>
                <a:cubicBezTo>
                  <a:pt x="66" y="28"/>
                  <a:pt x="65" y="17"/>
                  <a:pt x="58" y="7"/>
                </a:cubicBezTo>
                <a:cubicBezTo>
                  <a:pt x="55" y="2"/>
                  <a:pt x="41" y="1"/>
                  <a:pt x="41" y="1"/>
                </a:cubicBezTo>
                <a:cubicBezTo>
                  <a:pt x="18" y="2"/>
                  <a:pt x="24" y="0"/>
                  <a:pt x="11" y="8"/>
                </a:cubicBezTo>
                <a:cubicBezTo>
                  <a:pt x="10" y="12"/>
                  <a:pt x="3" y="19"/>
                  <a:pt x="3" y="19"/>
                </a:cubicBezTo>
                <a:cubicBezTo>
                  <a:pt x="2" y="23"/>
                  <a:pt x="1" y="26"/>
                  <a:pt x="0" y="30"/>
                </a:cubicBez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53240" y="4626000"/>
            <a:ext cx="1814400" cy="7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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en-US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62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-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119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a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буквен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177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+ 1=3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1844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-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2349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х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b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y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буквен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278136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3+5+4</a:t>
            </a: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буквен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378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5229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8:41:46Z</dcterms:created>
  <dc:creator>Михалева Татьяна Борисовна</dc:creator>
  <dc:description/>
  <dc:language>en-US</dc:language>
  <cp:lastModifiedBy>RUSSIA</cp:lastModifiedBy>
  <dcterms:modified xsi:type="dcterms:W3CDTF">2009-09-22T12:29:50Z</dcterms:modified>
  <cp:revision>125</cp:revision>
  <dc:subject/>
  <dc:title>Одночлен и его стандартный вид</dc:title>
</cp:coreProperties>
</file>